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30.wmf" ContentType="image/x-wmf"/>
  <Override PartName="/ppt/media/image73.png" ContentType="image/pn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3.jpeg" ContentType="image/jpeg"/>
  <Override PartName="/ppt/media/image35.png" ContentType="image/png"/>
  <Override PartName="/ppt/media/image34.jpeg" ContentType="image/jpeg"/>
  <Override PartName="/ppt/media/image31.png" ContentType="image/png"/>
  <Override PartName="/ppt/media/image2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0.jpeg" ContentType="image/jpeg"/>
  <Override PartName="/ppt/media/image19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69.wmf" ContentType="image/x-wmf"/>
  <Override PartName="/ppt/media/image50.jpeg" ContentType="image/jpeg"/>
  <Override PartName="/ppt/media/image89.png" ContentType="image/png"/>
  <Override PartName="/ppt/media/image52.png" ContentType="image/png"/>
  <Override PartName="/ppt/media/image17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51.jpeg" ContentType="image/jpeg"/>
  <Override PartName="/ppt/media/image65.jpeg" ContentType="image/jpeg"/>
  <Override PartName="/ppt/media/image80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70.jpeg" ContentType="image/jpeg"/>
  <Override PartName="/ppt/media/image77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79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76.jpeg" ContentType="image/jpeg"/>
  <Override PartName="/ppt/media/image72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8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.jpeg" ContentType="image/jpeg"/>
  <Override PartName="/ppt/media/image23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32.png" ContentType="image/png"/>
  <Override PartName="/ppt/media/image85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8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GS創英角ｺﾞｼｯｸUB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defRPr>
            </a:lvl1pPr>
          </a:lstStyle>
          <a:p>
            <a: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FDA-C7B2-41A6-93DA-F71A486CD8AF}" type="slidenum">
              <a:rPr b="0" lang="ja-JP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時間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休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時間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25360"/>
            <a:ext cx="853416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253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8253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8427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8427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253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8253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825360"/>
            <a:ext cx="27478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4164480" cy="57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842760"/>
            <a:ext cx="4164480" cy="57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4160" y="7920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842760"/>
            <a:ext cx="4164480" cy="57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253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4164480" cy="57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8253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4160" y="6300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842760"/>
            <a:ext cx="416448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25360"/>
            <a:ext cx="8534160" cy="27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GS創英角ｺﾞｼｯｸUB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" name=""/>
          <p:cNvSpPr/>
          <p:nvPr/>
        </p:nvSpPr>
        <p:spPr>
          <a:xfrm>
            <a:off x="826920" y="6669000"/>
            <a:ext cx="831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 </a:t>
            </a:r>
            <a:r>
              <a:rPr b="0" lang="ja-JP" sz="9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This Document was published in 2004 by Matsushita Electric Industrial Co.,Ltd. The Right of this document belongs to Matsushita Electric Industrial Co.,Ltd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1.jpeg"/><Relationship Id="rId6" Type="http://schemas.openxmlformats.org/officeDocument/2006/relationships/image" Target="../media/image14.jpeg"/><Relationship Id="rId7" Type="http://schemas.openxmlformats.org/officeDocument/2006/relationships/image" Target="../media/image42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1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png"/><Relationship Id="rId3" Type="http://schemas.openxmlformats.org/officeDocument/2006/relationships/image" Target="../media/image43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4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4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2.png"/><Relationship Id="rId4" Type="http://schemas.openxmlformats.org/officeDocument/2006/relationships/image" Target="../media/image68.png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3.jpeg"/><Relationship Id="rId3" Type="http://schemas.openxmlformats.org/officeDocument/2006/relationships/image" Target="../media/image14.jpeg"/><Relationship Id="rId4" Type="http://schemas.openxmlformats.org/officeDocument/2006/relationships/image" Target="../media/image43.jpeg"/><Relationship Id="rId5" Type="http://schemas.openxmlformats.org/officeDocument/2006/relationships/image" Target="../media/image13.jpeg"/><Relationship Id="rId6" Type="http://schemas.openxmlformats.org/officeDocument/2006/relationships/image" Target="../media/image70.jpeg"/><Relationship Id="rId7" Type="http://schemas.openxmlformats.org/officeDocument/2006/relationships/image" Target="../media/image69.wmf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6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2.jpeg"/><Relationship Id="rId3" Type="http://schemas.openxmlformats.org/officeDocument/2006/relationships/image" Target="../media/image14.jpeg"/><Relationship Id="rId4" Type="http://schemas.openxmlformats.org/officeDocument/2006/relationships/image" Target="../media/image43.jpeg"/><Relationship Id="rId5" Type="http://schemas.openxmlformats.org/officeDocument/2006/relationships/image" Target="../media/image75.jpe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75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47.jpeg"/><Relationship Id="rId3" Type="http://schemas.openxmlformats.org/officeDocument/2006/relationships/image" Target="../media/image46.jpeg"/><Relationship Id="rId4" Type="http://schemas.openxmlformats.org/officeDocument/2006/relationships/image" Target="../media/image48.jpeg"/><Relationship Id="rId5" Type="http://schemas.openxmlformats.org/officeDocument/2006/relationships/image" Target="../media/image81.jpeg"/><Relationship Id="rId6" Type="http://schemas.openxmlformats.org/officeDocument/2006/relationships/image" Target="../media/image82.png"/><Relationship Id="rId7" Type="http://schemas.openxmlformats.org/officeDocument/2006/relationships/image" Target="../media/image31.png"/><Relationship Id="rId8" Type="http://schemas.openxmlformats.org/officeDocument/2006/relationships/image" Target="../media/image83.jpeg"/><Relationship Id="rId9" Type="http://schemas.openxmlformats.org/officeDocument/2006/relationships/image" Target="../media/image84.jpeg"/><Relationship Id="rId10" Type="http://schemas.openxmlformats.org/officeDocument/2006/relationships/image" Target="../media/image85.jpe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HGS創英角ｺﾞｼｯｸUB"/>
              </a:rPr>
              <a:t>情報家電でつながる暮らし</a:t>
            </a:r>
            <a:endParaRPr b="1" lang="en-US" sz="44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11200" y="4941720"/>
            <a:ext cx="6400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松下電器産業株式会社</a:t>
            </a:r>
            <a:endParaRPr b="1" lang="en-US" sz="24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情報家電ってこんなイメージ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78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２０</a:t>
            </a:r>
            <a:r>
              <a:rPr b="1" lang="en-US" sz="1800" spc="-1" strike="noStrike">
                <a:solidFill>
                  <a:srgbClr val="000000"/>
                </a:solidFill>
                <a:latin typeface="HGSｺﾞｼｯｸE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頃、こんなことが可能になっているかも</a:t>
            </a:r>
            <a:endParaRPr b="1" lang="en-US" sz="18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07" name=""/>
          <p:cNvSpPr/>
          <p:nvPr/>
        </p:nvSpPr>
        <p:spPr>
          <a:xfrm rot="19992600">
            <a:off x="2673360" y="2401560"/>
            <a:ext cx="5977080" cy="221940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5108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1760400" cy="1320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48360" y="4245120"/>
            <a:ext cx="3887640" cy="2279520"/>
          </a:xfrm>
          <a:prstGeom prst="wedgeRectCallout">
            <a:avLst>
              <a:gd name="adj1" fmla="val -69231"/>
              <a:gd name="adj2" fmla="val -32032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06920" y="4514760"/>
            <a:ext cx="2408400" cy="180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108400"/>
            <a:ext cx="1689120" cy="1266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99200">
            <a:off x="-12240" y="4855680"/>
            <a:ext cx="2843280" cy="13352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lin ang="12102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9756200">
            <a:off x="2484360" y="3141360"/>
            <a:ext cx="1152720" cy="115092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93000">
            <a:off x="1258920" y="3643920"/>
            <a:ext cx="1152720" cy="86508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2240" y="4235400"/>
            <a:ext cx="181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教室にいながらバーチャル体験学習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01240" y="3789360"/>
            <a:ext cx="2452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腕時計型多機能携帯電話でどこからでも画像を送信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060640"/>
            <a:ext cx="1584360" cy="1152360"/>
          </a:xfrm>
          <a:prstGeom prst="wedgeEllipseCallout">
            <a:avLst>
              <a:gd name="adj1" fmla="val 78555"/>
              <a:gd name="adj2" fmla="val 94078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パパ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今日こんな事をしたんだよ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7760" y="5805360"/>
            <a:ext cx="162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壁面ディスプレイでテレビ電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2276640"/>
            <a:ext cx="1296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校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1080" y="6165720"/>
            <a:ext cx="1511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1197000"/>
            <a:ext cx="2663640" cy="1871640"/>
          </a:xfrm>
          <a:prstGeom prst="wedgeRectCallout">
            <a:avLst>
              <a:gd name="adj1" fmla="val -39870"/>
              <a:gd name="adj2" fmla="val 86810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467240" y="1484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07920" y="1197000"/>
            <a:ext cx="17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3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ディスプレイでの実験学習など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情報家電ってこんなイメージ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78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２０</a:t>
            </a:r>
            <a:r>
              <a:rPr b="1" lang="en-US" sz="1800" spc="-1" strike="noStrike">
                <a:solidFill>
                  <a:srgbClr val="000000"/>
                </a:solidFill>
                <a:latin typeface="HGSｺﾞｼｯｸE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頃、こんなことが可能になっているかも</a:t>
            </a:r>
            <a:endParaRPr b="1" lang="en-US" sz="18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27" name=""/>
          <p:cNvSpPr/>
          <p:nvPr/>
        </p:nvSpPr>
        <p:spPr>
          <a:xfrm rot="551400">
            <a:off x="1009440" y="2925360"/>
            <a:ext cx="4976640" cy="164304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2948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399200">
            <a:off x="792000" y="4855680"/>
            <a:ext cx="2843280" cy="13352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lin ang="12102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3040" y="6021360"/>
            <a:ext cx="1355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テレビからも予約でき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92160" y="1917720"/>
            <a:ext cx="2913120" cy="218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63800" y="3573360"/>
            <a:ext cx="1440000" cy="1008000"/>
          </a:xfrm>
          <a:prstGeom prst="wedgeRectCallout">
            <a:avLst>
              <a:gd name="adj1" fmla="val -5787"/>
              <a:gd name="adj2" fmla="val -150157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08520" y="3645000"/>
            <a:ext cx="1114200" cy="834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19480" y="1484280"/>
            <a:ext cx="236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街角の広告塔から最新情報を携帯にダウンロード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4880" y="2205000"/>
            <a:ext cx="1079640" cy="647640"/>
          </a:xfrm>
          <a:prstGeom prst="wedgeEllipseCallout">
            <a:avLst>
              <a:gd name="adj1" fmla="val -68824"/>
              <a:gd name="adj2" fmla="val 24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このツア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どう思う？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349360"/>
            <a:ext cx="1584360" cy="792360"/>
          </a:xfrm>
          <a:prstGeom prst="wedgeEllipseCallout">
            <a:avLst>
              <a:gd name="adj1" fmla="val 89578"/>
              <a:gd name="adj2" fmla="val 58013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00"/>
                </a:solidFill>
                <a:latin typeface="Times New Roman"/>
                <a:ea typeface="MS UI Gothic"/>
              </a:rPr>
              <a:t>あなたも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00"/>
                </a:solidFill>
                <a:latin typeface="Times New Roman"/>
                <a:ea typeface="MS UI Gothic"/>
              </a:rPr>
              <a:t>夏のバカンスに・・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1098400">
            <a:off x="6202080" y="2331720"/>
            <a:ext cx="2568600" cy="13348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8604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72360" y="19350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6220200">
            <a:off x="5115600" y="2704680"/>
            <a:ext cx="1249560" cy="106524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429000"/>
            <a:ext cx="1366560" cy="647640"/>
          </a:xfrm>
          <a:prstGeom prst="wedgeEllipseCallout">
            <a:avLst>
              <a:gd name="adj1" fmla="val -34319"/>
              <a:gd name="adj2" fmla="val -104166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スキューバかあ。いいわね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531800"/>
            <a:ext cx="2952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3300"/>
                </a:solidFill>
                <a:latin typeface="Times New Roman"/>
                <a:ea typeface="HGSｺﾞｼｯｸE"/>
              </a:rPr>
              <a:t>停車中車のフロントガラスがディスプレイに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84360" y="5013360"/>
            <a:ext cx="157464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4893000">
            <a:off x="1764720" y="4293000"/>
            <a:ext cx="1152360" cy="86544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05360"/>
            <a:ext cx="1439640" cy="863640"/>
          </a:xfrm>
          <a:prstGeom prst="wedgeEllipseCallout">
            <a:avLst>
              <a:gd name="adj1" fmla="val -18578"/>
              <a:gd name="adj2" fmla="val 79412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このツアーも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なかなかいいと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思うけど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1098400">
            <a:off x="5289480" y="5056200"/>
            <a:ext cx="2951280" cy="13352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14004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732720" y="4508640"/>
            <a:ext cx="1328760" cy="99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724360" y="5084640"/>
            <a:ext cx="1543320" cy="1157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0178400">
            <a:off x="4716000" y="4436640"/>
            <a:ext cx="1249560" cy="106524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4149720"/>
            <a:ext cx="1366560" cy="647640"/>
          </a:xfrm>
          <a:prstGeom prst="wedgeEllipseCallout">
            <a:avLst>
              <a:gd name="adj1" fmla="val -38268"/>
              <a:gd name="adj2" fmla="val 91912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なかな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じゃん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32680" y="6107040"/>
            <a:ext cx="1355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収納ディスプレイ付携帯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情報家電ってこんなイメージ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78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２０</a:t>
            </a:r>
            <a:r>
              <a:rPr b="1" lang="en-US" sz="1800" spc="-1" strike="noStrike">
                <a:solidFill>
                  <a:srgbClr val="000000"/>
                </a:solidFill>
                <a:latin typeface="HGSｺﾞｼｯｸE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HGSｺﾞｼｯｸE"/>
              </a:rPr>
              <a:t>頃、こんなことも・・</a:t>
            </a:r>
            <a:endParaRPr b="1" lang="en-US" sz="18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52" name=""/>
          <p:cNvSpPr/>
          <p:nvPr/>
        </p:nvSpPr>
        <p:spPr>
          <a:xfrm rot="551400">
            <a:off x="1514160" y="2619360"/>
            <a:ext cx="3344760" cy="138600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2948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99200">
            <a:off x="792000" y="4855680"/>
            <a:ext cx="2843280" cy="13352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lin ang="12102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21078000">
            <a:off x="2050920" y="4651920"/>
            <a:ext cx="866880" cy="57636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9520" y="4005360"/>
            <a:ext cx="153828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美味しかったお店のレシピを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ダウンロードしてくれるレン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1098400">
            <a:off x="5651640" y="4973400"/>
            <a:ext cx="2735280" cy="13348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8604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6654600">
            <a:off x="5501520" y="4350240"/>
            <a:ext cx="806400" cy="100800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4091040"/>
            <a:ext cx="2592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メッセージが焼けるトースタ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2256120" cy="169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2720" y="1773360"/>
            <a:ext cx="1584360" cy="1152360"/>
          </a:xfrm>
          <a:prstGeom prst="wedgeEllipseCallout">
            <a:avLst>
              <a:gd name="adj1" fmla="val 78856"/>
              <a:gd name="adj2" fmla="val 55509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新聞も紙の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ディスプレイなら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かさばらないし、便利ね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43720" y="429912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833480" cy="1052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16360" y="4797360"/>
            <a:ext cx="549360" cy="836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rcRect l="56162" t="0" r="0" b="58313"/>
          <a:stretch/>
        </p:blipFill>
        <p:spPr>
          <a:xfrm>
            <a:off x="7380360" y="3933720"/>
            <a:ext cx="934920" cy="122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900000" y="4941720"/>
            <a:ext cx="1087560" cy="9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5157720"/>
            <a:ext cx="1366920" cy="647640"/>
          </a:xfrm>
          <a:prstGeom prst="wedgeEllipseCallout">
            <a:avLst>
              <a:gd name="adj1" fmla="val 33625"/>
              <a:gd name="adj2" fmla="val -1024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昨日は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ゴメンネ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508000">
            <a:off x="5719320" y="2204640"/>
            <a:ext cx="2739960" cy="13352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9192000"/>
          </a:gradFill>
          <a:ln w="76320">
            <a:solidFill>
              <a:srgbClr val="0000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341360"/>
            <a:ext cx="1263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ペーパー</a:t>
            </a:r>
            <a:r>
              <a:rPr b="0" lang="zh-CN" sz="1200" spc="-1" strike="noStrike">
                <a:solidFill>
                  <a:srgbClr val="003300"/>
                </a:solidFill>
                <a:latin typeface="Times New Roman"/>
                <a:ea typeface="HGSｺﾞｼｯｸE"/>
              </a:rPr>
              <a:t>ディスプレイ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5300640"/>
            <a:ext cx="1368360" cy="720720"/>
          </a:xfrm>
          <a:prstGeom prst="wedgeRectCallout">
            <a:avLst>
              <a:gd name="adj1" fmla="val -97912"/>
              <a:gd name="adj2" fmla="val -16740"/>
            </a:avLst>
          </a:prstGeom>
          <a:solidFill>
            <a:srgbClr val="ffffff"/>
          </a:solidFill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そのお店のグラタンレシピ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ゲットしよ。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5796000" y="1413000"/>
            <a:ext cx="1301760" cy="1773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rcRect l="12379" t="0" r="0" b="0"/>
          <a:stretch/>
        </p:blipFill>
        <p:spPr>
          <a:xfrm>
            <a:off x="7236000" y="1251000"/>
            <a:ext cx="1245960" cy="102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92720" y="907920"/>
            <a:ext cx="2592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Times New Roman"/>
                <a:ea typeface="HGSｺﾞｼｯｸE"/>
              </a:rPr>
              <a:t>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HGSｺﾞｼｯｸE"/>
              </a:rPr>
              <a:t>冷蔵庫の中身が携帯でわか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20000" y="2421000"/>
            <a:ext cx="1800000" cy="647640"/>
          </a:xfrm>
          <a:prstGeom prst="wedgeEllipseCallout">
            <a:avLst>
              <a:gd name="adj1" fmla="val 16050"/>
              <a:gd name="adj2" fmla="val -126962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66"/>
                </a:solidFill>
                <a:latin typeface="Times New Roman"/>
                <a:ea typeface="MS UI Gothic"/>
              </a:rPr>
              <a:t>あれ、家のビールまだあったっけ？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24000" y="3025440"/>
            <a:ext cx="68407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HGSｺﾞｼｯｸE"/>
                <a:ea typeface="ＭＳ Ｐゴシック"/>
              </a:rPr>
              <a:t>インターネットカメラ</a:t>
            </a:r>
            <a:endParaRPr b="1" lang="en-US" sz="28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３．　　実際に操作してみよう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2697120"/>
            <a:ext cx="1782720" cy="145260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インターネットカメラとは？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実際に操作してみよう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438280"/>
            <a:ext cx="838080" cy="685800"/>
          </a:xfrm>
          <a:custGeom>
            <a:avLst/>
            <a:gdLst>
              <a:gd name="textAreaLeft" fmla="*/ 120600 w 838080"/>
              <a:gd name="textAreaRight" fmla="*/ 717480 w 838080"/>
              <a:gd name="textAreaTop" fmla="*/ 98640 h 685800"/>
              <a:gd name="textAreaBottom" fmla="*/ 58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45" y="21600"/>
                </a:lnTo>
                <a:lnTo>
                  <a:pt x="2455" y="2160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438280"/>
            <a:ext cx="838440" cy="685800"/>
          </a:xfrm>
          <a:custGeom>
            <a:avLst/>
            <a:gdLst>
              <a:gd name="textAreaLeft" fmla="*/ 120600 w 838440"/>
              <a:gd name="textAreaRight" fmla="*/ 717840 w 838440"/>
              <a:gd name="textAreaTop" fmla="*/ 98640 h 685800"/>
              <a:gd name="textAreaBottom" fmla="*/ 58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45" y="21600"/>
                </a:lnTo>
                <a:lnTo>
                  <a:pt x="2455" y="2160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724280"/>
            <a:ext cx="1676520" cy="1295640"/>
          </a:xfrm>
          <a:custGeom>
            <a:avLst/>
            <a:gdLst>
              <a:gd name="textAreaLeft" fmla="*/ 202680 w 1676520"/>
              <a:gd name="textAreaRight" fmla="*/ 1473840 w 1676520"/>
              <a:gd name="textAreaTop" fmla="*/ 156600 h 1295640"/>
              <a:gd name="textAreaBottom" fmla="*/ 11390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50" y="21600"/>
                </a:lnTo>
                <a:lnTo>
                  <a:pt x="1550" y="2160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438280"/>
            <a:ext cx="838080" cy="685800"/>
          </a:xfrm>
          <a:custGeom>
            <a:avLst/>
            <a:gdLst>
              <a:gd name="textAreaLeft" fmla="*/ 120600 w 838080"/>
              <a:gd name="textAreaRight" fmla="*/ 717480 w 838080"/>
              <a:gd name="textAreaTop" fmla="*/ 98640 h 685800"/>
              <a:gd name="textAreaBottom" fmla="*/ 58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45" y="21600"/>
                </a:lnTo>
                <a:lnTo>
                  <a:pt x="2455" y="2160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823680" cy="8571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491480" y="3454200"/>
            <a:ext cx="718920" cy="507600"/>
            <a:chOff x="1491480" y="3454200"/>
            <a:chExt cx="718920" cy="507600"/>
          </a:xfrm>
        </p:grpSpPr>
        <p:sp>
          <p:nvSpPr>
            <p:cNvPr id="185" name=""/>
            <p:cNvSpPr/>
            <p:nvPr/>
          </p:nvSpPr>
          <p:spPr>
            <a:xfrm flipH="1" rot="1449600">
              <a:off x="1528920" y="3555360"/>
              <a:ext cx="561240" cy="304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449600">
              <a:off x="1999800" y="3759120"/>
              <a:ext cx="186840" cy="1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362320" y="3429000"/>
            <a:ext cx="75888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43200" y="2743200"/>
            <a:ext cx="762120" cy="2819520"/>
          </a:xfrm>
          <a:custGeom>
            <a:avLst/>
            <a:gdLst/>
            <a:ahLst/>
            <a:rect l="l" t="t" r="r" b="b"/>
            <a:pathLst>
              <a:path w="480" h="1776">
                <a:moveTo>
                  <a:pt x="480" y="0"/>
                </a:moveTo>
                <a:lnTo>
                  <a:pt x="336" y="1776"/>
                </a:lnTo>
                <a:lnTo>
                  <a:pt x="0" y="1776"/>
                </a:ln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743200"/>
            <a:ext cx="129564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0"/>
                </a:moveTo>
                <a:lnTo>
                  <a:pt x="48" y="336"/>
                </a:lnTo>
                <a:lnTo>
                  <a:pt x="816" y="336"/>
                </a:ln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388620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0"/>
                </a:moveTo>
                <a:lnTo>
                  <a:pt x="77" y="288"/>
                </a:lnTo>
                <a:lnTo>
                  <a:pt x="1008" y="288"/>
                </a:ln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209680"/>
            <a:ext cx="121896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209680"/>
            <a:ext cx="121932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2209680"/>
            <a:ext cx="121896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91680" y="2311200"/>
            <a:ext cx="718920" cy="507600"/>
            <a:chOff x="3091680" y="2311200"/>
            <a:chExt cx="718920" cy="507600"/>
          </a:xfrm>
        </p:grpSpPr>
        <p:sp>
          <p:nvSpPr>
            <p:cNvPr id="195" name=""/>
            <p:cNvSpPr/>
            <p:nvPr/>
          </p:nvSpPr>
          <p:spPr>
            <a:xfrm flipH="1" rot="1449600">
              <a:off x="3129120" y="2412360"/>
              <a:ext cx="561240" cy="304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1449600">
              <a:off x="3600000" y="2616120"/>
              <a:ext cx="186840" cy="1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72720" y="2311200"/>
            <a:ext cx="718920" cy="507600"/>
            <a:chOff x="1872720" y="2311200"/>
            <a:chExt cx="718920" cy="507600"/>
          </a:xfrm>
        </p:grpSpPr>
        <p:sp>
          <p:nvSpPr>
            <p:cNvPr id="198" name=""/>
            <p:cNvSpPr/>
            <p:nvPr/>
          </p:nvSpPr>
          <p:spPr>
            <a:xfrm flipH="1" rot="1449600">
              <a:off x="1910160" y="2412360"/>
              <a:ext cx="561240" cy="3045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1449600">
              <a:off x="2381040" y="2616120"/>
              <a:ext cx="186840" cy="1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" y="1752480"/>
            <a:ext cx="3886200" cy="4572000"/>
          </a:xfrm>
          <a:custGeom>
            <a:avLst/>
            <a:gdLst>
              <a:gd name="textAreaLeft" fmla="*/ 132120 w 3886200"/>
              <a:gd name="textAreaRight" fmla="*/ 3754080 w 3886200"/>
              <a:gd name="textAreaTop" fmla="*/ 132120 h 4572000"/>
              <a:gd name="textAreaBottom" fmla="*/ 4439880 h 4572000"/>
            </a:gdLst>
            <a:ahLst/>
            <a:rect l="textAreaLeft" t="textAreaTop" r="textAreaRight" b="textAreaBottom"/>
            <a:pathLst>
              <a:path w="21600" h="25411">
                <a:moveTo>
                  <a:pt x="2510" y="0"/>
                </a:moveTo>
                <a:arcTo wR="2510" hR="2510" stAng="16200000" swAng="-5400000"/>
                <a:lnTo>
                  <a:pt x="0" y="22901"/>
                </a:lnTo>
                <a:arcTo wR="2510" hR="2510" stAng="10800000" swAng="-5400000"/>
                <a:lnTo>
                  <a:pt x="19090" y="25411"/>
                </a:lnTo>
                <a:arcTo wR="2510" hR="2510" stAng="5400000" swAng="-5400000"/>
                <a:lnTo>
                  <a:pt x="21600" y="2510"/>
                </a:lnTo>
                <a:arcTo wR="2510" hR="2510" stAng="0" swAng="-5400000"/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5080" y="1600200"/>
            <a:ext cx="140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いままでのカメラ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429000"/>
            <a:ext cx="2743200" cy="76212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1480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2438280"/>
            <a:ext cx="838440" cy="685800"/>
          </a:xfrm>
          <a:custGeom>
            <a:avLst/>
            <a:gdLst>
              <a:gd name="textAreaLeft" fmla="*/ 120600 w 838440"/>
              <a:gd name="textAreaRight" fmla="*/ 717840 w 838440"/>
              <a:gd name="textAreaTop" fmla="*/ 98640 h 685800"/>
              <a:gd name="textAreaBottom" fmla="*/ 58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45" y="21600"/>
                </a:lnTo>
                <a:lnTo>
                  <a:pt x="2455" y="21600"/>
                </a:lnTo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2209680"/>
            <a:ext cx="121932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3124080"/>
            <a:ext cx="0" cy="304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724280" y="1600200"/>
            <a:ext cx="3886200" cy="4724280"/>
            <a:chOff x="4724280" y="1600200"/>
            <a:chExt cx="3886200" cy="4724280"/>
          </a:xfrm>
        </p:grpSpPr>
        <p:sp>
          <p:nvSpPr>
            <p:cNvPr id="209" name=""/>
            <p:cNvSpPr/>
            <p:nvPr/>
          </p:nvSpPr>
          <p:spPr>
            <a:xfrm>
              <a:off x="4724280" y="1752480"/>
              <a:ext cx="3886200" cy="4572000"/>
            </a:xfrm>
            <a:custGeom>
              <a:avLst/>
              <a:gdLst>
                <a:gd name="textAreaLeft" fmla="*/ 132120 w 3886200"/>
                <a:gd name="textAreaRight" fmla="*/ 3754080 w 3886200"/>
                <a:gd name="textAreaTop" fmla="*/ 132120 h 4572000"/>
                <a:gd name="textAreaBottom" fmla="*/ 4439880 h 4572000"/>
              </a:gdLst>
              <a:ahLst/>
              <a:rect l="textAreaLeft" t="textAreaTop" r="textAreaRight" b="textAreaBottom"/>
              <a:pathLst>
                <a:path w="21600" h="25411">
                  <a:moveTo>
                    <a:pt x="2510" y="0"/>
                  </a:moveTo>
                  <a:arcTo wR="2510" hR="2510" stAng="16200000" swAng="-5400000"/>
                  <a:lnTo>
                    <a:pt x="0" y="22901"/>
                  </a:lnTo>
                  <a:arcTo wR="2510" hR="2510" stAng="10800000" swAng="-5400000"/>
                  <a:lnTo>
                    <a:pt x="19090" y="25411"/>
                  </a:lnTo>
                  <a:arcTo wR="2510" hR="2510" stAng="5400000" swAng="-5400000"/>
                  <a:lnTo>
                    <a:pt x="21600" y="2510"/>
                  </a:lnTo>
                  <a:arcTo wR="2510" hR="2510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81760" y="1600200"/>
              <a:ext cx="1704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66"/>
                  </a:solidFill>
                  <a:latin typeface="Times New Roman"/>
                  <a:ea typeface="HGｺﾞｼｯｸE"/>
                </a:rPr>
                <a:t>インターネットカメラ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1480" y="4800600"/>
              <a:ext cx="1676520" cy="1295280"/>
            </a:xfrm>
            <a:custGeom>
              <a:avLst/>
              <a:gdLst>
                <a:gd name="textAreaLeft" fmla="*/ 202680 w 1676520"/>
                <a:gd name="textAreaRight" fmla="*/ 1473840 w 1676520"/>
                <a:gd name="textAreaTop" fmla="*/ 156600 h 1295280"/>
                <a:gd name="textAreaBottom" fmla="*/ 11386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0" y="21600"/>
                  </a:lnTo>
                  <a:lnTo>
                    <a:pt x="15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5334120" y="5105520"/>
              <a:ext cx="8236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086600" y="2438280"/>
              <a:ext cx="838080" cy="685800"/>
            </a:xfrm>
            <a:custGeom>
              <a:avLst/>
              <a:gdLst>
                <a:gd name="textAreaLeft" fmla="*/ 120600 w 838080"/>
                <a:gd name="textAreaRight" fmla="*/ 717480 w 838080"/>
                <a:gd name="textAreaTop" fmla="*/ 98640 h 685800"/>
                <a:gd name="textAreaBottom" fmla="*/ 58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145" y="21600"/>
                  </a:lnTo>
                  <a:lnTo>
                    <a:pt x="245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320" y="2209680"/>
              <a:ext cx="121896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206480" y="2311200"/>
              <a:ext cx="718920" cy="507600"/>
              <a:chOff x="7206480" y="2311200"/>
              <a:chExt cx="718920" cy="507600"/>
            </a:xfrm>
          </p:grpSpPr>
          <p:sp>
            <p:nvSpPr>
              <p:cNvPr id="216" name=""/>
              <p:cNvSpPr/>
              <p:nvPr/>
            </p:nvSpPr>
            <p:spPr>
              <a:xfrm flipH="1" rot="1449600">
                <a:off x="7243920" y="2412360"/>
                <a:ext cx="561240" cy="304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449600">
                <a:off x="7714800" y="2616120"/>
                <a:ext cx="186840" cy="1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87520" y="2311200"/>
              <a:ext cx="718920" cy="507600"/>
              <a:chOff x="5987520" y="2311200"/>
              <a:chExt cx="718920" cy="507600"/>
            </a:xfrm>
          </p:grpSpPr>
          <p:sp>
            <p:nvSpPr>
              <p:cNvPr id="219" name=""/>
              <p:cNvSpPr/>
              <p:nvPr/>
            </p:nvSpPr>
            <p:spPr>
              <a:xfrm flipH="1" rot="1449600">
                <a:off x="6024960" y="2412360"/>
                <a:ext cx="561240" cy="304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449600">
                <a:off x="6495840" y="2616120"/>
                <a:ext cx="186840" cy="152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943600" y="419112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09680" y="5334120"/>
            <a:ext cx="609840" cy="457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410080"/>
            <a:ext cx="457200" cy="29052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インターネットカメラの全体イメージ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676520"/>
            <a:ext cx="3657600" cy="472428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724280"/>
              <a:gd name="textAreaBottom" fmla="*/ 4545720 h 4724280"/>
            </a:gdLst>
            <a:ahLst/>
            <a:rect l="textAreaLeft" t="textAreaTop" r="textAreaRight" b="textAreaBottom"/>
            <a:pathLst>
              <a:path w="21600" h="27899">
                <a:moveTo>
                  <a:pt x="3600" y="0"/>
                </a:moveTo>
                <a:arcTo wR="3600" hR="3600" stAng="16200000" swAng="-5400000"/>
                <a:lnTo>
                  <a:pt x="0" y="24299"/>
                </a:lnTo>
                <a:arcTo wR="3600" hR="3600" stAng="10800000" swAng="-5400000"/>
                <a:lnTo>
                  <a:pt x="18000" y="27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実際に操作してみよう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1676520"/>
            <a:ext cx="3657600" cy="472428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724280"/>
              <a:gd name="textAreaBottom" fmla="*/ 4545720 h 4724280"/>
            </a:gdLst>
            <a:ahLst/>
            <a:rect l="textAreaLeft" t="textAreaTop" r="textAreaRight" b="textAreaBottom"/>
            <a:pathLst>
              <a:path w="21600" h="27899">
                <a:moveTo>
                  <a:pt x="3600" y="0"/>
                </a:moveTo>
                <a:arcTo wR="3600" hR="3600" stAng="16200000" swAng="-5400000"/>
                <a:lnTo>
                  <a:pt x="0" y="24299"/>
                </a:lnTo>
                <a:arcTo wR="3600" hR="3600" stAng="10800000" swAng="-5400000"/>
                <a:lnTo>
                  <a:pt x="18000" y="27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695400" y="3771720"/>
            <a:ext cx="1828800" cy="25146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05520" y="4876920"/>
            <a:ext cx="685800" cy="514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14400" y="2133720"/>
            <a:ext cx="7162920" cy="403848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23160" y="441972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6840" y="220968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外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820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家の様子を外から確認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568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外の様子を家から確認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14600"/>
            <a:ext cx="14475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2362320"/>
            <a:ext cx="144792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038480"/>
            <a:ext cx="144792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画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3048120"/>
            <a:ext cx="2743200" cy="76176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57400" y="3200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867280" y="3047760"/>
            <a:ext cx="381240" cy="228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819520" y="3047760"/>
            <a:ext cx="380880" cy="228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200400" y="3809880"/>
            <a:ext cx="380880" cy="533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380988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267080"/>
            <a:ext cx="144792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962520"/>
            <a:ext cx="609840" cy="6094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429000" y="5105520"/>
            <a:ext cx="1295280" cy="664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386400" y="2860560"/>
            <a:ext cx="1143000" cy="708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1152720" cy="897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809880" y="5286240"/>
            <a:ext cx="551160" cy="368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6858000" y="4419720"/>
            <a:ext cx="496800" cy="11030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842720" y="5368320"/>
            <a:ext cx="502200" cy="577800"/>
            <a:chOff x="4842720" y="5368320"/>
            <a:chExt cx="502200" cy="577800"/>
          </a:xfrm>
        </p:grpSpPr>
        <p:sp>
          <p:nvSpPr>
            <p:cNvPr id="252" name=""/>
            <p:cNvSpPr/>
            <p:nvPr/>
          </p:nvSpPr>
          <p:spPr>
            <a:xfrm>
              <a:off x="4952880" y="5486400"/>
              <a:ext cx="304920" cy="380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2880" y="5410080"/>
              <a:ext cx="76320" cy="152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410080"/>
              <a:ext cx="76320" cy="152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842200">
              <a:off x="4886280" y="5400360"/>
              <a:ext cx="75960" cy="152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8757800">
              <a:off x="5218920" y="5371560"/>
              <a:ext cx="76320" cy="152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9080" y="5486400"/>
              <a:ext cx="4338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66"/>
                  </a:solidFill>
                  <a:latin typeface="Times New Roman"/>
                  <a:ea typeface="HGSｺﾞｼｯｸE"/>
                </a:rPr>
                <a:t>・・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59280" y="5486400"/>
              <a:ext cx="485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  <a:ea typeface="HGSｺﾞｼｯｸE"/>
                </a:rPr>
                <a:t>・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1905120" y="4191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5943600" y="5029200"/>
            <a:ext cx="709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実際に操作してみよう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携帯でエアコンを操作する全体イメージ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095200" y="3771720"/>
            <a:ext cx="1828800" cy="25146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057400"/>
            <a:ext cx="7315200" cy="411480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89440" y="449568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3160" y="220968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外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3048120"/>
            <a:ext cx="2743200" cy="76176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62120" y="3200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666880" y="5105520"/>
            <a:ext cx="1447920" cy="534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76720" y="4572000"/>
            <a:ext cx="380880" cy="30492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3809880"/>
            <a:ext cx="0" cy="7621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3505320"/>
            <a:ext cx="1143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907920" cy="1523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3276360" y="4876920"/>
            <a:ext cx="75960" cy="152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393840" cy="874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4114800" y="5410080"/>
            <a:ext cx="2171880" cy="422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928200" y="2921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（学校）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7760" y="5410080"/>
            <a:ext cx="3539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（　　　　　　　　　　　　）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実際に操作してみよう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全体：ネットワークを介してつながっている！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3504960" y="2361960"/>
            <a:ext cx="1828800" cy="5334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4560" y="434340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70880" y="1676520"/>
            <a:ext cx="72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家の外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3048120"/>
            <a:ext cx="2743200" cy="76176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2120" y="3200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2743200"/>
            <a:ext cx="1143000" cy="4572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8098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1905120" y="2819160"/>
            <a:ext cx="380880" cy="228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4952880"/>
            <a:ext cx="380880" cy="30492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5257800"/>
            <a:ext cx="3810240" cy="533520"/>
          </a:xfrm>
          <a:custGeom>
            <a:avLst/>
            <a:gdLst/>
            <a:ahLst/>
            <a:rect l="l" t="t" r="r" b="b"/>
            <a:pathLst>
              <a:path w="2688" h="336">
                <a:moveTo>
                  <a:pt x="0" y="0"/>
                </a:moveTo>
                <a:lnTo>
                  <a:pt x="0" y="336"/>
                </a:lnTo>
                <a:lnTo>
                  <a:pt x="2688" y="336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237200" y="4911840"/>
            <a:ext cx="868320" cy="650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819520" y="4876920"/>
            <a:ext cx="1428480" cy="66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334120" y="5029200"/>
            <a:ext cx="1066680" cy="3938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429000" y="5486400"/>
            <a:ext cx="0" cy="304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5486400"/>
            <a:ext cx="0" cy="304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5486400"/>
            <a:ext cx="0" cy="304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0480" y="46483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</a:rPr>
              <a:t>（パナソニックセンター）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0" y="1600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学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940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会社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1587240" cy="812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638680" y="2133720"/>
            <a:ext cx="2057400" cy="819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362320" y="4648320"/>
            <a:ext cx="4343400" cy="990360"/>
          </a:xfrm>
          <a:prstGeom prst="roundRect">
            <a:avLst>
              <a:gd name="adj" fmla="val 45514"/>
            </a:avLst>
          </a:prstGeom>
          <a:noFill/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505320"/>
            <a:ext cx="1218960" cy="228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1130040" cy="588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874920" y="3048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店舗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４．　　　　　グループワーク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HGSｺﾞｼｯｸE"/>
                <a:ea typeface="HGｺﾞｼｯｸE"/>
              </a:rPr>
              <a:t>こんな情報家電があったら！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651120" y="2895480"/>
            <a:ext cx="17589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グループワーク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こんな情報家電があったら！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家電＋通信機能であったらよいと思われるものを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グループでひとつアイデア出しして下さい。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アイデアについ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概要（どのような事をするものか）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それによってどんなメリットがあるか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課題はあるか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本日の内容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42760"/>
            <a:ext cx="883944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暮らしを変えた家電の今昔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情報家電ってこんなイメージ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実際に操作してみよう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グループワーク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情報家電を支える技術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HGSｺﾞｼｯｸE"/>
              </a:rPr>
              <a:t>情報サービス</a:t>
            </a: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グループワーク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こんな情報家電があったら！・・発表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５．　　　　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22560" y="2286000"/>
            <a:ext cx="299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データ圧縮と記録媒体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映像データはこんなにデータ量が！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7320" y="3048120"/>
            <a:ext cx="6858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95920" y="316548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携帯電話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ピクチャ　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11760" y="38862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デジタルカメラ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万画素写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Times New Roman"/>
              </a:rPr>
              <a:t>（※ファインモード）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20040" y="54100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V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カメラの映像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分間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5943240" y="3200400"/>
            <a:ext cx="1066680" cy="10666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4351" y="11347"/>
                </a:moveTo>
                <a:arcTo wR="-6472" hR="-6472" stAng="10509109" swAng="-10509109"/>
                <a:lnTo>
                  <a:pt x="0" y="10800"/>
                </a:lnTo>
                <a:arcTo wR="10800" hR="10800" stAng="10800000" swAng="10509109"/>
                <a:lnTo>
                  <a:pt x="24252" y="9659"/>
                </a:lnTo>
                <a:lnTo>
                  <a:pt x="19816" y="14917"/>
                </a:lnTo>
                <a:lnTo>
                  <a:pt x="14559" y="104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5905080" y="453384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4351" y="11347"/>
                </a:moveTo>
                <a:arcTo wR="-6472" hR="-6472" stAng="10509109" swAng="-10509109"/>
                <a:lnTo>
                  <a:pt x="0" y="10800"/>
                </a:lnTo>
                <a:arcTo wR="10800" hR="10800" stAng="10800000" swAng="10509109"/>
                <a:lnTo>
                  <a:pt x="24252" y="9659"/>
                </a:lnTo>
                <a:lnTo>
                  <a:pt x="19816" y="14917"/>
                </a:lnTo>
                <a:lnTo>
                  <a:pt x="14559" y="104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8360" y="2438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HGSｺﾞｼｯｸE"/>
              </a:rPr>
              <a:t>例えば・・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11360" y="3048120"/>
            <a:ext cx="812520" cy="693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58720" y="396252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06440" y="51055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2760" y="518148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52578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35040" y="5353200"/>
            <a:ext cx="1152360" cy="895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499360" y="31240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M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6080" y="3352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1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46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335268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290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40035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2M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7320" y="53341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200M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134120" y="3124080"/>
            <a:ext cx="14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４００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62920" y="4724280"/>
            <a:ext cx="140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１００倍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40" name=""/>
          <p:cNvSpPr/>
          <p:nvPr/>
        </p:nvSpPr>
        <p:spPr>
          <a:xfrm>
            <a:off x="385920" y="2133720"/>
            <a:ext cx="8377200" cy="43434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データ圧縮と記録媒体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映像データの圧縮技術の例・・・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peg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（エムペグ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4724280"/>
            <a:ext cx="8229600" cy="1752840"/>
          </a:xfrm>
          <a:prstGeom prst="roundRect">
            <a:avLst>
              <a:gd name="adj" fmla="val 13407"/>
            </a:avLst>
          </a:prstGeom>
          <a:solidFill>
            <a:srgbClr val="ccffff"/>
          </a:solidFill>
          <a:ln w="9360">
            <a:solidFill>
              <a:srgbClr val="66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133720"/>
            <a:ext cx="152388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cc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567160" y="4870440"/>
            <a:ext cx="1155600" cy="1378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553000" y="4876920"/>
            <a:ext cx="1089000" cy="1523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H="1" rot="5400000">
            <a:off x="4199760" y="5162400"/>
            <a:ext cx="91440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33520" y="2286000"/>
            <a:ext cx="561960" cy="617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952560" cy="6098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2324160" y="3809880"/>
            <a:ext cx="1104840" cy="6192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3962520" y="3718080"/>
            <a:ext cx="1218960" cy="731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5600880" y="3733920"/>
            <a:ext cx="1333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7238880" y="3657600"/>
            <a:ext cx="1447920" cy="868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57200" y="3429000"/>
            <a:ext cx="152388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3429000"/>
            <a:ext cx="152388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3429000"/>
            <a:ext cx="152424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3429000"/>
            <a:ext cx="152388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3429000"/>
            <a:ext cx="152388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77040" y="6019920"/>
            <a:ext cx="100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１</a:t>
            </a: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/</a:t>
            </a: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１０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61" name=""/>
          <p:cNvSpPr/>
          <p:nvPr/>
        </p:nvSpPr>
        <p:spPr>
          <a:xfrm>
            <a:off x="4974480" y="601992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約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83800" y="213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（背景など変化しないデータ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79240" y="3048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（よく動くデータ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データ圧縮と記録媒体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記録媒体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85800" y="1989000"/>
          <a:ext cx="7924680" cy="4390920"/>
        </p:xfrm>
        <a:graphic>
          <a:graphicData uri="http://schemas.openxmlformats.org/drawingml/2006/table">
            <a:tbl>
              <a:tblPr/>
              <a:tblGrid>
                <a:gridCol w="2743200"/>
                <a:gridCol w="152388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HGSｺﾞｼｯｸE"/>
                          <a:ea typeface="ＭＳ Ｐゴシック"/>
                        </a:rPr>
                        <a:t>媒体のタイプ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HGSｺﾞｼｯｸE"/>
                          <a:ea typeface="ＭＳ Ｐゴシック"/>
                        </a:rPr>
                        <a:t>容量の例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HGSｺﾞｼｯｸE"/>
                          <a:ea typeface="ＭＳ Ｐゴシック"/>
                        </a:rPr>
                        <a:t>どんなものに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フロッピーディスク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１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M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ディスク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640M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CD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プレーヤ　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MP3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プレーヤ</a:t>
                      </a:r>
                      <a:r>
                        <a:rPr b="0" lang="zh-CN" sz="16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など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SD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メモリ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1G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1000MB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デジタルカメラ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カメラ付携帯</a:t>
                      </a:r>
                      <a:r>
                        <a:rPr b="0" lang="zh-CN" sz="16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など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DVD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ディスク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4.7G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4700MB</a:t>
                      </a: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※</a:t>
                      </a:r>
                      <a:r>
                        <a:rPr b="0" lang="zh-CN" sz="1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片面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DVD</a:t>
                      </a: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レコーダ</a:t>
                      </a:r>
                      <a:r>
                        <a:rPr b="0" lang="zh-CN" sz="16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など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Blu-Ray</a:t>
                      </a:r>
                      <a:r>
                        <a:rPr b="1" lang="ja-JP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ディスク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27G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27000MB</a:t>
                      </a:r>
                      <a:r>
                        <a:rPr b="0" lang="zh-CN" sz="16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※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2004.</a:t>
                      </a:r>
                      <a:r>
                        <a:rPr b="0" lang="zh-CN" sz="1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夏現在の容量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Blu-Ray</a:t>
                      </a:r>
                      <a:r>
                        <a:rPr b="0" lang="ja-JP" sz="20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ディスクレコーダ</a:t>
                      </a:r>
                      <a:r>
                        <a:rPr b="0" lang="ja-JP" sz="1600" spc="-1" strike="noStrike">
                          <a:solidFill>
                            <a:srgbClr val="000066"/>
                          </a:solidFill>
                          <a:latin typeface="ＭＳ Ｐゴシック"/>
                          <a:ea typeface="ＭＳ Ｐゴシック"/>
                        </a:rPr>
                        <a:t>など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211400" cy="274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772400" y="3573360"/>
            <a:ext cx="393840" cy="874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705720" y="3726000"/>
            <a:ext cx="9205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情報家電の普及を支える技術の例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	</a:t>
            </a: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家庭の電灯線をインターネットケーブルに。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ＥＣＨＯＮＥＴ</a:t>
            </a:r>
            <a:r>
              <a:rPr b="0" lang="zh-CN" sz="28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ＴＭ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とは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家庭内のネットワークを、電灯線などで実現させるため。国内家電メーカ、電力会社が参画し、規格（共通ルール）を策定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ＭＳ Ｐゴシック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ＭＳ Ｐゴシック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何のためのもの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家庭の電灯線をＬＡＮとして使え、大規模な配線工事などを行わずに家庭内ネットワークができる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ECHONET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CHONET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　　で例えば何が便利になるの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4160" y="2133720"/>
            <a:ext cx="2719440" cy="4267080"/>
          </a:xfrm>
          <a:custGeom>
            <a:avLst/>
            <a:gdLst>
              <a:gd name="textAreaLeft" fmla="*/ 82800 w 2719440"/>
              <a:gd name="textAreaRight" fmla="*/ 2636640 w 2719440"/>
              <a:gd name="textAreaTop" fmla="*/ 82800 h 4267080"/>
              <a:gd name="textAreaBottom" fmla="*/ 4184280 h 4267080"/>
            </a:gdLst>
            <a:ahLst/>
            <a:rect l="textAreaLeft" t="textAreaTop" r="textAreaRight" b="textAreaBottom"/>
            <a:pathLst>
              <a:path w="21600" h="33891">
                <a:moveTo>
                  <a:pt x="2250" y="0"/>
                </a:moveTo>
                <a:arcTo wR="2250" hR="2250" stAng="16200000" swAng="-5400000"/>
                <a:lnTo>
                  <a:pt x="0" y="31641"/>
                </a:lnTo>
                <a:arcTo wR="2250" hR="2250" stAng="10800000" swAng="-5400000"/>
                <a:lnTo>
                  <a:pt x="19350" y="33891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2133720"/>
            <a:ext cx="2666880" cy="4267080"/>
          </a:xfrm>
          <a:custGeom>
            <a:avLst/>
            <a:gdLst>
              <a:gd name="textAreaLeft" fmla="*/ 81360 w 2666880"/>
              <a:gd name="textAreaRight" fmla="*/ 2585520 w 2666880"/>
              <a:gd name="textAreaTop" fmla="*/ 81360 h 4267080"/>
              <a:gd name="textAreaBottom" fmla="*/ 4185720 h 4267080"/>
            </a:gdLst>
            <a:ahLst/>
            <a:rect l="textAreaLeft" t="textAreaTop" r="textAreaRight" b="textAreaBottom"/>
            <a:pathLst>
              <a:path w="21600" h="34559">
                <a:moveTo>
                  <a:pt x="2250" y="0"/>
                </a:moveTo>
                <a:arcTo wR="2250" hR="2250" stAng="16200000" swAng="-5400000"/>
                <a:lnTo>
                  <a:pt x="0" y="32309"/>
                </a:lnTo>
                <a:arcTo wR="2250" hR="2250" stAng="10800000" swAng="-5400000"/>
                <a:lnTo>
                  <a:pt x="19350" y="34559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2133720"/>
            <a:ext cx="2871720" cy="4267080"/>
          </a:xfrm>
          <a:custGeom>
            <a:avLst/>
            <a:gdLst>
              <a:gd name="textAreaLeft" fmla="*/ 87480 w 2871720"/>
              <a:gd name="textAreaRight" fmla="*/ 2784240 w 2871720"/>
              <a:gd name="textAreaTop" fmla="*/ 87480 h 4267080"/>
              <a:gd name="textAreaBottom" fmla="*/ 4179600 h 4267080"/>
            </a:gdLst>
            <a:ahLst/>
            <a:rect l="textAreaLeft" t="textAreaTop" r="textAreaRight" b="textAreaBottom"/>
            <a:pathLst>
              <a:path w="21600" h="32094">
                <a:moveTo>
                  <a:pt x="2250" y="0"/>
                </a:moveTo>
                <a:arcTo wR="2250" hR="2250" stAng="16200000" swAng="-5400000"/>
                <a:lnTo>
                  <a:pt x="0" y="29844"/>
                </a:lnTo>
                <a:arcTo wR="2250" hR="2250" stAng="10800000" swAng="-5400000"/>
                <a:lnTo>
                  <a:pt x="19350" y="32094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377" name=""/>
          <p:cNvSpPr/>
          <p:nvPr/>
        </p:nvSpPr>
        <p:spPr>
          <a:xfrm>
            <a:off x="2857320" y="1363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Times New Roman"/>
              </a:rPr>
              <a:t>ＴＭ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09480" y="2928960"/>
            <a:ext cx="1123920" cy="880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771560" y="2928960"/>
            <a:ext cx="1123920" cy="880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80880" y="5410080"/>
            <a:ext cx="2667240" cy="76212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37880" y="5562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3886200"/>
            <a:ext cx="2361960" cy="1447920"/>
          </a:xfrm>
          <a:prstGeom prst="upDownArrow">
            <a:avLst>
              <a:gd name="adj1" fmla="val 69352"/>
              <a:gd name="adj2" fmla="val 22917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59920" y="43434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の規格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5410080"/>
            <a:ext cx="2590560" cy="76212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57400" y="5562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600360" y="2971800"/>
            <a:ext cx="1123920" cy="880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733920" y="2332080"/>
            <a:ext cx="765000" cy="457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4648320" y="2743200"/>
            <a:ext cx="1066680" cy="395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352680" y="3886200"/>
            <a:ext cx="2514600" cy="457200"/>
          </a:xfrm>
          <a:prstGeom prst="upArrow">
            <a:avLst>
              <a:gd name="adj1" fmla="val 63639"/>
              <a:gd name="adj2" fmla="val 64236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352680" y="4952160"/>
            <a:ext cx="2514600" cy="381240"/>
          </a:xfrm>
          <a:prstGeom prst="upArrow">
            <a:avLst>
              <a:gd name="adj1" fmla="val 63639"/>
              <a:gd name="adj2" fmla="val 64236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14920" y="4419720"/>
            <a:ext cx="1595160" cy="423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PｺﾞｼｯｸE"/>
              </a:rPr>
              <a:t>電灯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00600" y="4572000"/>
            <a:ext cx="952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GSｺﾞｼｯｸE"/>
              </a:rPr>
              <a:t>？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GSｺﾞｼｯｸE"/>
              <a:ea typeface="HGSｺﾞｼｯｸE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5364000"/>
            <a:ext cx="2590920" cy="76212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44880" y="5516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267600" y="2925720"/>
            <a:ext cx="1123920" cy="881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400800" y="2286000"/>
            <a:ext cx="76500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315200" y="2697120"/>
            <a:ext cx="1066680" cy="3952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019920" y="3840120"/>
            <a:ext cx="2514600" cy="480960"/>
          </a:xfrm>
          <a:prstGeom prst="upArrow">
            <a:avLst>
              <a:gd name="adj1" fmla="val 63639"/>
              <a:gd name="adj2" fmla="val 64236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019920" y="4830840"/>
            <a:ext cx="2514600" cy="457200"/>
          </a:xfrm>
          <a:prstGeom prst="upArrow">
            <a:avLst>
              <a:gd name="adj1" fmla="val 63639"/>
              <a:gd name="adj2" fmla="val 64236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81800" y="4325760"/>
            <a:ext cx="1595520" cy="500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PｺﾞｼｯｸE"/>
              </a:rPr>
              <a:t>電灯線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620120" y="4648320"/>
            <a:ext cx="952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GSｺﾞｼｯｸE"/>
              </a:rPr>
              <a:t>ＯＫ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GSｺﾞｼｯｸE"/>
              <a:ea typeface="HGSｺﾞｼｯｸE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2514600"/>
            <a:ext cx="2895840" cy="1143000"/>
          </a:xfrm>
          <a:prstGeom prst="wedgeRoundRectCallout">
            <a:avLst>
              <a:gd name="adj1" fmla="val 23847"/>
              <a:gd name="adj2" fmla="val 90555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電灯線はインターネットの規格でないからつながらないよ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514600"/>
            <a:ext cx="3124080" cy="1143000"/>
          </a:xfrm>
          <a:prstGeom prst="wedgeRoundRectCallout">
            <a:avLst>
              <a:gd name="adj1" fmla="val 18444"/>
              <a:gd name="adj2" fmla="val 90555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電灯線でインターネットに対応できる規格を決めています。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14840" y="5595840"/>
            <a:ext cx="3124080" cy="1143000"/>
          </a:xfrm>
          <a:prstGeom prst="wedgeRoundRectCallout">
            <a:avLst>
              <a:gd name="adj1" fmla="val 19814"/>
              <a:gd name="adj2" fmla="val -114444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これに対応した、いろいろな機器がﾈｯﾄに簡単につながるね。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22160" y="836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Times New Roman"/>
              </a:rPr>
              <a:t>ＴＭ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標準化団体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標準化とは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2133720"/>
            <a:ext cx="3886200" cy="4038480"/>
          </a:xfrm>
          <a:prstGeom prst="rect">
            <a:avLst/>
          </a:prstGeom>
          <a:noFill/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24280" y="2133720"/>
            <a:ext cx="3733920" cy="4038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2286000"/>
            <a:ext cx="2971800" cy="1371600"/>
          </a:xfrm>
          <a:prstGeom prst="wedgeEllipseCallout">
            <a:avLst>
              <a:gd name="adj1" fmla="val 44870"/>
              <a:gd name="adj2" fmla="val 54745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違うメーカーだとつながらないなんて事だと困るよ。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724280"/>
            <a:ext cx="3657600" cy="1524240"/>
          </a:xfrm>
          <a:prstGeom prst="wedgeEllipseCallout">
            <a:avLst>
              <a:gd name="adj1" fmla="val -13541"/>
              <a:gd name="adj2" fmla="val -70416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共通ルール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に従って機器が作られているので大丈夫だね。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581280" y="2685960"/>
            <a:ext cx="455760" cy="1486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685800" cy="552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flipH="1" rot="5400000">
            <a:off x="4038480" y="3637800"/>
            <a:ext cx="1066680" cy="648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1752480"/>
            <a:ext cx="2819160" cy="68580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標準化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770040" y="4422600"/>
            <a:ext cx="1668240" cy="378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685800" cy="63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219320" y="5029200"/>
            <a:ext cx="3047760" cy="990720"/>
          </a:xfrm>
          <a:prstGeom prst="wedgeEllipseCallout">
            <a:avLst>
              <a:gd name="adj1" fmla="val -16717"/>
              <a:gd name="adj2" fmla="val -84296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方式が違うので記録できないって？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2590920"/>
            <a:ext cx="23623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標準化団体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5791320" y="3276720"/>
            <a:ext cx="15858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標準化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2286000"/>
            <a:ext cx="7848720" cy="2438280"/>
          </a:xfrm>
          <a:prstGeom prst="ellipse">
            <a:avLst/>
          </a:prstGeom>
          <a:noFill/>
          <a:ln w="98280">
            <a:solidFill>
              <a:srgbClr val="6600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752480" y="5181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477120" y="5338800"/>
            <a:ext cx="1003320" cy="69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8153280" y="2876400"/>
            <a:ext cx="497160" cy="11034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533520" y="4605480"/>
            <a:ext cx="1143000" cy="423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304920" y="30099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7696080" y="443880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371600" y="1523880"/>
            <a:ext cx="762120" cy="6858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A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219320"/>
            <a:ext cx="761760" cy="6858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B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81480" y="1219320"/>
            <a:ext cx="762120" cy="6858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C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1600200"/>
            <a:ext cx="76176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D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76520" y="2209680"/>
            <a:ext cx="533160" cy="2286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57600" y="1905120"/>
            <a:ext cx="228600" cy="3045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410080" y="1905120"/>
            <a:ext cx="152640" cy="3045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934320" y="2286000"/>
            <a:ext cx="457200" cy="2286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990720" y="4343400"/>
            <a:ext cx="304560" cy="3808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209680" y="4572000"/>
            <a:ext cx="457200" cy="9144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6324120" y="4648320"/>
            <a:ext cx="685800" cy="83808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772040" y="4266720"/>
            <a:ext cx="304920" cy="2286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657600"/>
            <a:ext cx="472464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標準化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3886200" y="4876920"/>
            <a:ext cx="1585800" cy="1216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219320" y="4038480"/>
            <a:ext cx="30456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4038480"/>
            <a:ext cx="30492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0" y="2438280"/>
            <a:ext cx="304920" cy="30492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2209680"/>
            <a:ext cx="304920" cy="30492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2362320"/>
            <a:ext cx="304560" cy="30456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1560" y="2590920"/>
            <a:ext cx="1460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いろいろな会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33720" y="5791320"/>
            <a:ext cx="1460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いろいろな商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IP</a:t>
            </a: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ｖ６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ネットにつながる機器が増えると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P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アドレスとは・・・インターネット上の住所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23880" y="4572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インター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1809720" cy="843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438280" y="3886200"/>
            <a:ext cx="3276720" cy="1697040"/>
          </a:xfrm>
          <a:prstGeom prst="roundRect">
            <a:avLst>
              <a:gd name="adj" fmla="val 36718"/>
            </a:avLst>
          </a:prstGeom>
          <a:noFill/>
          <a:ln w="76320">
            <a:solidFill>
              <a:srgbClr val="6600cc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043280" cy="7808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638680" y="3003480"/>
            <a:ext cx="2197080" cy="8510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2819520" y="3137040"/>
            <a:ext cx="838080" cy="582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038480" y="3137040"/>
            <a:ext cx="838440" cy="582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1905120" y="3657600"/>
            <a:ext cx="811080" cy="5256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 flipV="1">
            <a:off x="1828800" y="4114440"/>
            <a:ext cx="228600" cy="304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590920" y="3428640"/>
            <a:ext cx="457200" cy="152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581280" y="3429000"/>
            <a:ext cx="533520" cy="763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876920" y="3429000"/>
            <a:ext cx="533160" cy="381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7996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データ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1222200" y="3908520"/>
            <a:ext cx="1978200" cy="1349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867280" y="4876920"/>
            <a:ext cx="3200400" cy="1371600"/>
          </a:xfrm>
          <a:prstGeom prst="wedgeRoundRectCallout">
            <a:avLst>
              <a:gd name="adj1" fmla="val -23212"/>
              <a:gd name="adj2" fmla="val -93634"/>
              <a:gd name="adj3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172200" y="5181480"/>
            <a:ext cx="2743200" cy="457200"/>
            <a:chOff x="6172200" y="5181480"/>
            <a:chExt cx="2743200" cy="457200"/>
          </a:xfrm>
        </p:grpSpPr>
        <p:sp>
          <p:nvSpPr>
            <p:cNvPr id="470" name=""/>
            <p:cNvSpPr/>
            <p:nvPr/>
          </p:nvSpPr>
          <p:spPr>
            <a:xfrm>
              <a:off x="6172200" y="51814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29400" y="51814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6600" y="51814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72400" y="53337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77320" y="53337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2240" y="53337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86800" y="53337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3800" y="5486040"/>
              <a:ext cx="152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V="1">
            <a:off x="5715000" y="4114800"/>
            <a:ext cx="533520" cy="763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600200" y="5181480"/>
            <a:ext cx="914400" cy="533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１．　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8200" y="228600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</a:rPr>
              <a:t>桁数が多いと多くの番地を識別できる。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38080" y="4724280"/>
            <a:ext cx="2743200" cy="457200"/>
            <a:chOff x="838080" y="4724280"/>
            <a:chExt cx="2743200" cy="457200"/>
          </a:xfrm>
        </p:grpSpPr>
        <p:sp>
          <p:nvSpPr>
            <p:cNvPr id="483" name=""/>
            <p:cNvSpPr/>
            <p:nvPr/>
          </p:nvSpPr>
          <p:spPr>
            <a:xfrm>
              <a:off x="838080" y="47242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52480" y="4724280"/>
              <a:ext cx="38124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8280" y="48765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43200" y="48765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8120" y="48765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2680" y="4876560"/>
              <a:ext cx="228600" cy="30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5028840"/>
              <a:ext cx="152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38080" y="2666880"/>
            <a:ext cx="381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2666880"/>
            <a:ext cx="381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3809880"/>
            <a:ext cx="830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1600200"/>
            <a:ext cx="3886200" cy="48006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800600"/>
              <a:gd name="textAreaBottom" fmla="*/ 4610880 h 4800600"/>
            </a:gdLst>
            <a:ahLst/>
            <a:rect l="textAreaLeft" t="textAreaTop" r="textAreaRight" b="textAreaBottom"/>
            <a:pathLst>
              <a:path w="21600" h="26682">
                <a:moveTo>
                  <a:pt x="3600" y="0"/>
                </a:moveTo>
                <a:arcTo wR="3600" hR="3600" stAng="16200000" swAng="-5400000"/>
                <a:lnTo>
                  <a:pt x="0" y="23082"/>
                </a:lnTo>
                <a:arcTo wR="3600" hR="3600" stAng="10800000" swAng="-5400000"/>
                <a:lnTo>
                  <a:pt x="18000" y="26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3581280"/>
            <a:ext cx="12952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48320" y="1600200"/>
            <a:ext cx="3886200" cy="48006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800600"/>
              <a:gd name="textAreaBottom" fmla="*/ 4610880 h 4800600"/>
            </a:gdLst>
            <a:ahLst/>
            <a:rect l="textAreaLeft" t="textAreaTop" r="textAreaRight" b="textAreaBottom"/>
            <a:pathLst>
              <a:path w="21600" h="26682">
                <a:moveTo>
                  <a:pt x="3600" y="0"/>
                </a:moveTo>
                <a:arcTo wR="3600" hR="3600" stAng="16200000" swAng="-5400000"/>
                <a:lnTo>
                  <a:pt x="0" y="23082"/>
                </a:lnTo>
                <a:arcTo wR="3600" hR="3600" stAng="10800000" swAng="-5400000"/>
                <a:lnTo>
                  <a:pt x="18000" y="26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74320" y="1447920"/>
            <a:ext cx="91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郵便番号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53960" y="1447920"/>
            <a:ext cx="127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ＩＰアドレ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38080" y="198108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３け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38080" y="411480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７け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02" name=""/>
          <p:cNvSpPr/>
          <p:nvPr/>
        </p:nvSpPr>
        <p:spPr>
          <a:xfrm>
            <a:off x="1051200" y="2637000"/>
            <a:ext cx="91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１ ０５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17560" y="2620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東京都港区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43760" y="4818240"/>
            <a:ext cx="855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０ ０１１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0040" y="53341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東京都港区芝公園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800600" y="198108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ＩＰｖ４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800600" y="403848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ＩＰｖ６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3657600"/>
            <a:ext cx="12956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864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6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13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436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244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57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343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152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915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4674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24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9246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010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77320" y="243828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5328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29600" y="24382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5840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３２け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53360" y="420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１２８け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45120" y="2651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HGP創英角ｺﾞｼｯｸUB"/>
              </a:rPr>
              <a:t>２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18560" y="3352680"/>
            <a:ext cx="17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４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,</a:t>
            </a: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２９４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,</a:t>
            </a: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９６７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,</a:t>
            </a: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２９４個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5600" y="266688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３２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45120" y="4708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HGP創英角ｺﾞｼｯｸUB"/>
              </a:rPr>
              <a:t>２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94760" y="457200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１２８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43640" y="2816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種類の番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21320" y="5013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種類の番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09880" y="5675400"/>
            <a:ext cx="373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340,282,366,920,938,463,463,374,607,431,768,211,456</a:t>
            </a: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40040" y="4653000"/>
            <a:ext cx="91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１ ０５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66760" y="838080"/>
            <a:ext cx="8696160" cy="589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</a:rPr>
              <a:t>ＩＰｖ６で何が便利になるの？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523880"/>
            <a:ext cx="4876920" cy="5105520"/>
          </a:xfrm>
          <a:custGeom>
            <a:avLst/>
            <a:gdLst>
              <a:gd name="textAreaLeft" fmla="*/ 237960 w 4876920"/>
              <a:gd name="textAreaRight" fmla="*/ 4638960 w 4876920"/>
              <a:gd name="textAreaTop" fmla="*/ 237960 h 5105520"/>
              <a:gd name="textAreaBottom" fmla="*/ 4867560 h 5105520"/>
            </a:gdLst>
            <a:ahLst/>
            <a:rect l="textAreaLeft" t="textAreaTop" r="textAreaRight" b="textAreaBottom"/>
            <a:pathLst>
              <a:path w="21600" h="22612">
                <a:moveTo>
                  <a:pt x="3600" y="0"/>
                </a:moveTo>
                <a:arcTo wR="3600" hR="3600" stAng="16200000" swAng="-5400000"/>
                <a:lnTo>
                  <a:pt x="0" y="19012"/>
                </a:lnTo>
                <a:arcTo wR="3600" hR="3600" stAng="10800000" swAng="-5400000"/>
                <a:lnTo>
                  <a:pt x="18000" y="22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90512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ＩＰｖ４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4191120"/>
            <a:ext cx="116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GP創英角ｺﾞｼｯｸUB"/>
              </a:rPr>
              <a:t>ＩＰｖ６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962520"/>
            <a:ext cx="1295640" cy="38088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609480" y="2465280"/>
            <a:ext cx="838440" cy="582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flipV="1">
            <a:off x="1447920" y="2781360"/>
            <a:ext cx="531720" cy="144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2370240" y="1607760"/>
            <a:ext cx="1584360" cy="20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08760" y="1700280"/>
            <a:ext cx="729360" cy="459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松下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2200" y="2924280"/>
            <a:ext cx="2773440" cy="1152360"/>
          </a:xfrm>
          <a:prstGeom prst="wedgeRoundRectCallout">
            <a:avLst>
              <a:gd name="adj1" fmla="val -87666"/>
              <a:gd name="adj2" fmla="val -42699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玄関に置いとくので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あとは松下家で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適当にやって！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609480" y="4751280"/>
            <a:ext cx="838440" cy="582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rot="16200000">
            <a:off x="2019240" y="4381200"/>
            <a:ext cx="2133720" cy="20574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32440" y="4419720"/>
            <a:ext cx="729360" cy="459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松下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452680" y="4800600"/>
            <a:ext cx="290520" cy="646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987640" y="4869000"/>
            <a:ext cx="2232000" cy="457200"/>
          </a:xfrm>
          <a:prstGeom prst="wedgeRoundRectCallout">
            <a:avLst>
              <a:gd name="adj1" fmla="val -62662"/>
              <a:gd name="adj2" fmla="val 9722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松下太郎の携帯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761760" cy="281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987640" y="5445000"/>
            <a:ext cx="2057400" cy="457200"/>
          </a:xfrm>
          <a:prstGeom prst="wedgeRoundRectCallout">
            <a:avLst>
              <a:gd name="adj1" fmla="val -60032"/>
              <a:gd name="adj2" fmla="val 347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松下家のｴｱｺﾝ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2362320" y="5791320"/>
            <a:ext cx="476280" cy="6858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971800" y="6019920"/>
            <a:ext cx="1828800" cy="457200"/>
          </a:xfrm>
          <a:prstGeom prst="wedgeRoundRectCallout">
            <a:avLst>
              <a:gd name="adj1" fmla="val -68490"/>
              <a:gd name="adj2" fmla="val -62847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松下家のﾃﾚﾋﾞ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09680" y="256536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？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573" name=""/>
          <p:cNvSpPr/>
          <p:nvPr/>
        </p:nvSpPr>
        <p:spPr>
          <a:xfrm>
            <a:off x="6003720" y="1700280"/>
            <a:ext cx="2349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HGSｺﾞｼｯｸE"/>
              </a:rPr>
              <a:t>●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つながる機器が増え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HGSｺﾞｼｯｸE"/>
              </a:rPr>
              <a:t>●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直接つなが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20840" y="47721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HGSｺﾞｼｯｸE"/>
              </a:rPr>
              <a:t>●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安全につなが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71600" y="5081760"/>
            <a:ext cx="1066680" cy="556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474480" cy="3826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572000" y="2205000"/>
            <a:ext cx="2016000" cy="792360"/>
          </a:xfrm>
          <a:prstGeom prst="wedgeRoundRectCallout">
            <a:avLst>
              <a:gd name="adj1" fmla="val -84407"/>
              <a:gd name="adj2" fmla="val 19939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そんな事言われても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わかんないよ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パソコン詳しくないし・・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セキュリティ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ネット社会が発達してくると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ネットの悪用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ＭＳ Ｐゴシック"/>
              </a:rPr>
              <a:t>スキミング</a:t>
            </a:r>
            <a:r>
              <a:rPr b="0" lang="en-US" sz="2800" spc="-1" strike="noStrike">
                <a:solidFill>
                  <a:srgbClr val="000066"/>
                </a:solidFill>
                <a:latin typeface="ＭＳ Ｐゴシック"/>
              </a:rPr>
              <a:t>/</a:t>
            </a:r>
            <a:r>
              <a:rPr b="0" lang="zh-CN" sz="2800" spc="-1" strike="noStrike">
                <a:solidFill>
                  <a:srgbClr val="000066"/>
                </a:solidFill>
                <a:latin typeface="ＭＳ Ｐゴシック"/>
              </a:rPr>
              <a:t>キーロガー</a:t>
            </a: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ＭＳ Ｐゴシック"/>
              </a:rPr>
              <a:t>架空請求</a:t>
            </a: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ＭＳ Ｐゴシック"/>
              </a:rPr>
              <a:t>SPAM/</a:t>
            </a:r>
            <a:r>
              <a:rPr b="0" lang="zh-CN" sz="2800" spc="-1" strike="noStrike">
                <a:solidFill>
                  <a:srgbClr val="000066"/>
                </a:solidFill>
                <a:latin typeface="ＭＳ Ｐゴシック"/>
              </a:rPr>
              <a:t>悪質サイト</a:t>
            </a: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ＭＳ Ｐゴシック"/>
              </a:rPr>
              <a:t>踏み台、不正アクセス</a:t>
            </a:r>
            <a:endParaRPr b="0" lang="en-US" sz="2800" spc="-1" strike="noStrike">
              <a:solidFill>
                <a:srgbClr val="000066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セキュリティ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セキュリティの技術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暗号化　第三者にデータを読み取られないようにする技術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認証　本人かどうかを確認する技術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認証や暗号化ができていないと？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盗聴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ＭＳ Ｐゴシック"/>
              </a:rPr>
              <a:t>なりすまし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638680" y="4419720"/>
            <a:ext cx="2666880" cy="1383840"/>
            <a:chOff x="5638680" y="4419720"/>
            <a:chExt cx="2666880" cy="1383840"/>
          </a:xfrm>
        </p:grpSpPr>
        <p:pic>
          <p:nvPicPr>
            <p:cNvPr id="583" name="" descr=""/>
            <p:cNvPicPr/>
            <p:nvPr/>
          </p:nvPicPr>
          <p:blipFill>
            <a:blip r:embed="rId1"/>
            <a:stretch/>
          </p:blipFill>
          <p:spPr>
            <a:xfrm>
              <a:off x="5638680" y="4422600"/>
              <a:ext cx="13010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6923880" y="4419720"/>
              <a:ext cx="1381680" cy="13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"/>
          <p:cNvSpPr/>
          <p:nvPr/>
        </p:nvSpPr>
        <p:spPr>
          <a:xfrm>
            <a:off x="6377040" y="5867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虹彩認証カメラ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家電を支える技術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気をつけよう。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パスワードを人に教えない、すぐにわかるパスワードはつけない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安心できないサイトでクレジットカードなどの重要な情報を入力したりしない。また大事なメールアドレスを使わない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差出人の判らない怪しいメールを開かない、怪しいメールに返信しない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申込みや契約内容は記録しておく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パスワードは定期的に更新する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セキュリティに配慮したものか確認して使う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ＭＳ Ｐゴシック"/>
              </a:rPr>
              <a:t>携帯電話などを紛失しない。気安く他人に貸さない。</a:t>
            </a:r>
            <a:endParaRPr b="0" lang="en-US" sz="2400" spc="-1" strike="noStrike">
              <a:solidFill>
                <a:srgbClr val="000066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６．　　　　　　　　情報サービス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8036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サービス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家電＋情報＝サービス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昔の家電と情報家電の違い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057400"/>
            <a:ext cx="2438280" cy="42670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2057400"/>
            <a:ext cx="5410440" cy="4267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046400" y="4419720"/>
            <a:ext cx="1059120" cy="15238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 rot="16200000">
            <a:off x="723960" y="4152600"/>
            <a:ext cx="1904760" cy="19810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3352680" y="3580920"/>
            <a:ext cx="2514600" cy="25146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362320"/>
            <a:ext cx="1143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7162920" y="2438280"/>
            <a:ext cx="990360" cy="7621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7086600" y="4267080"/>
            <a:ext cx="1143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162920" y="4343400"/>
            <a:ext cx="914400" cy="762120"/>
            <a:chOff x="7162920" y="4343400"/>
            <a:chExt cx="914400" cy="762120"/>
          </a:xfrm>
        </p:grpSpPr>
        <p:sp>
          <p:nvSpPr>
            <p:cNvPr id="602" name=""/>
            <p:cNvSpPr/>
            <p:nvPr/>
          </p:nvSpPr>
          <p:spPr>
            <a:xfrm>
              <a:off x="7162920" y="4800600"/>
              <a:ext cx="9144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2920" y="4800600"/>
              <a:ext cx="304560" cy="30492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5200" y="4343400"/>
              <a:ext cx="609480" cy="609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HGSｺﾞｼｯｸE"/>
                </a:rPr>
                <a:t>￥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V="1">
            <a:off x="5029200" y="2971800"/>
            <a:ext cx="1981080" cy="1447920"/>
          </a:xfrm>
          <a:prstGeom prst="line">
            <a:avLst/>
          </a:prstGeom>
          <a:ln w="20016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181480" y="4724280"/>
            <a:ext cx="1981440" cy="76320"/>
          </a:xfrm>
          <a:prstGeom prst="line">
            <a:avLst/>
          </a:prstGeom>
          <a:ln w="20016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7600" y="2590920"/>
            <a:ext cx="264312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みえますネ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サービ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10080" y="5105520"/>
            <a:ext cx="29718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オンラインチケッ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サービ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5333760" cy="2057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つながるところに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「サービス」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＝新たな価値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362320"/>
            <a:ext cx="1447920" cy="1066680"/>
          </a:xfrm>
          <a:prstGeom prst="wedgeEllipseCallout">
            <a:avLst>
              <a:gd name="adj1" fmla="val 18750"/>
              <a:gd name="adj2" fmla="val 20252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画質が良い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3880" y="3200400"/>
            <a:ext cx="1447920" cy="1066680"/>
          </a:xfrm>
          <a:prstGeom prst="wedgeEllipseCallout">
            <a:avLst>
              <a:gd name="adj1" fmla="val -31907"/>
              <a:gd name="adj2" fmla="val 98064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録画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簡単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080" y="5334120"/>
            <a:ext cx="1600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SｺﾞｼｯｸE"/>
              </a:rPr>
              <a:t>機能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サービス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情報家電の利用イメージ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3504960" y="4724280"/>
            <a:ext cx="1524240" cy="1981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6520" y="2590920"/>
            <a:ext cx="5486400" cy="1828800"/>
          </a:xfrm>
          <a:prstGeom prst="ellipse">
            <a:avLst/>
          </a:prstGeom>
          <a:noFill/>
          <a:ln w="57240">
            <a:solidFill>
              <a:srgbClr val="9966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505320" y="5411880"/>
            <a:ext cx="1425600" cy="9126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1739880" cy="691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114800" y="1447920"/>
            <a:ext cx="1587600" cy="812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>
            <a:off x="6095880" y="5010120"/>
            <a:ext cx="1498680" cy="7812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457200" y="2971800"/>
            <a:ext cx="1206360" cy="4665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6705720" y="4092480"/>
            <a:ext cx="1393560" cy="13939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>
            <a:off x="2286000" y="1600200"/>
            <a:ext cx="716040" cy="10666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>
            <a:off x="7315200" y="1676520"/>
            <a:ext cx="1027080" cy="985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6248520" y="1219320"/>
            <a:ext cx="1015920" cy="13334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>
            <a:off x="914400" y="4908600"/>
            <a:ext cx="1486080" cy="9586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590920" y="3124080"/>
            <a:ext cx="38098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HGｺﾞｼｯｸE"/>
              </a:rPr>
              <a:t>情報サービ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00200" y="23623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音楽・映像配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198108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ニュース・情報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38680" y="23623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くらし情報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カルチャー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342900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レジャー・天気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交通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1"/>
          <a:srcRect l="0" t="0" r="0" b="30233"/>
          <a:stretch/>
        </p:blipFill>
        <p:spPr>
          <a:xfrm>
            <a:off x="7772400" y="3200400"/>
            <a:ext cx="900000" cy="977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248520" y="335268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健康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81480" y="411480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ショッピン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1911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Times New Roman"/>
              </a:rPr>
              <a:t>安心・見守り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740400">
            <a:off x="3962520" y="3885840"/>
            <a:ext cx="609480" cy="1371600"/>
          </a:xfrm>
          <a:prstGeom prst="upDownArrow">
            <a:avLst>
              <a:gd name="adj1" fmla="val 50000"/>
              <a:gd name="adj2" fmla="val 44800"/>
            </a:avLst>
          </a:prstGeom>
          <a:solidFill>
            <a:srgbClr val="ff6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2361960" y="2286000"/>
            <a:ext cx="1066680" cy="91440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572000" y="2133720"/>
            <a:ext cx="76320" cy="91440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638680" y="2437920"/>
            <a:ext cx="1067040" cy="76212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5181120" y="3809520"/>
            <a:ext cx="1219320" cy="129564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3581280"/>
            <a:ext cx="2133360" cy="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080" y="3505320"/>
            <a:ext cx="2133720" cy="7596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981080" y="3809520"/>
            <a:ext cx="1600200" cy="1143000"/>
          </a:xfrm>
          <a:prstGeom prst="line">
            <a:avLst/>
          </a:prstGeom>
          <a:ln w="7632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2"/>
          <a:stretch/>
        </p:blipFill>
        <p:spPr>
          <a:xfrm>
            <a:off x="3581280" y="2379600"/>
            <a:ext cx="639720" cy="10494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13"/>
          <a:srcRect l="56162" t="0" r="0" b="58313"/>
          <a:stretch/>
        </p:blipFill>
        <p:spPr>
          <a:xfrm>
            <a:off x="4343400" y="2286000"/>
            <a:ext cx="85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ＭＳ Ｐゴシック"/>
              </a:rPr>
              <a:t>情報サービス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ユーザとして、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　　　　また今後情報サービスを担うかもしれない皆さんへ。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4648320"/>
            <a:ext cx="2666880" cy="17524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5" y="0"/>
                </a:lnTo>
                <a:lnTo>
                  <a:pt x="21600" y="10800"/>
                </a:lnTo>
                <a:lnTo>
                  <a:pt x="181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情報家電！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生活を･･･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581200" y="3646440"/>
            <a:ext cx="379116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3533760" y="3429000"/>
            <a:ext cx="30193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HGｺﾞｼｯｸE"/>
              </a:rPr>
              <a:t>戦後の家電の歴史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spcAft>
                <a:spcPts val="176"/>
              </a:spcAft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１９５０～６０年代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228760" cy="2971800"/>
          </a:xfrm>
          <a:prstGeom prst="rect">
            <a:avLst/>
          </a:prstGeom>
          <a:ln w="8892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81280" y="2209680"/>
            <a:ext cx="2057400" cy="2971800"/>
          </a:xfrm>
          <a:prstGeom prst="rect">
            <a:avLst/>
          </a:prstGeom>
          <a:ln w="8892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057400" cy="2971800"/>
          </a:xfrm>
          <a:prstGeom prst="rect">
            <a:avLst/>
          </a:prstGeom>
          <a:ln w="8892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1066680" y="4876920"/>
            <a:ext cx="7620120" cy="1600200"/>
            <a:chOff x="1066680" y="4876920"/>
            <a:chExt cx="7620120" cy="1600200"/>
          </a:xfrm>
        </p:grpSpPr>
        <p:sp>
          <p:nvSpPr>
            <p:cNvPr id="58" name=""/>
            <p:cNvSpPr/>
            <p:nvPr/>
          </p:nvSpPr>
          <p:spPr>
            <a:xfrm>
              <a:off x="5257800" y="4876920"/>
              <a:ext cx="3429000" cy="160020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</a:rPr>
                <a:t>人々の暮らしが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</a:rPr>
                <a:t>全体的に向上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5334120"/>
              <a:ext cx="4343400" cy="99036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25" y="0"/>
                  </a:lnTo>
                  <a:lnTo>
                    <a:pt x="21600" y="10800"/>
                  </a:lnTo>
                  <a:lnTo>
                    <a:pt x="1912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  <a:effectLst>
              <a:outerShdw dist="17819" dir="2700000" blurRad="0" rotWithShape="0">
                <a:srgbClr val="5b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</a:rPr>
                <a:t>近代工場による大量生産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Times New Roman"/>
                </a:rPr>
                <a:t>高度経済成長時代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981080" y="3124080"/>
            <a:ext cx="5334120" cy="129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HG創英角ｺﾞｼｯｸUB"/>
              </a:rPr>
              <a:t>三種の神器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241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1952</a:t>
            </a: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年型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800600"/>
            <a:ext cx="241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1954</a:t>
            </a: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年型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800600"/>
            <a:ext cx="241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1953</a:t>
            </a: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年型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１９６０～７０年代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866960"/>
            <a:ext cx="2590560" cy="1962000"/>
          </a:xfrm>
          <a:prstGeom prst="rect">
            <a:avLst/>
          </a:prstGeom>
          <a:solidFill>
            <a:srgbClr val="ffffff"/>
          </a:solidFill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514600" cy="190476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72200" y="2371680"/>
            <a:ext cx="211464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552760" cy="190476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0" name=""/>
          <p:cNvSpPr/>
          <p:nvPr/>
        </p:nvSpPr>
        <p:spPr>
          <a:xfrm>
            <a:off x="795240" y="2562120"/>
            <a:ext cx="204156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cc"/>
                </a:solidFill>
                <a:latin typeface="Arial Black"/>
                <a:ea typeface="SimHei"/>
              </a:rPr>
              <a:t>ColorTV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cc"/>
                </a:solidFill>
                <a:latin typeface="Arial Black"/>
              </a:rPr>
              <a:t>（</a:t>
            </a:r>
            <a:r>
              <a:rPr b="0" lang="ja-JP" sz="2400" spc="-1" strike="noStrike">
                <a:solidFill>
                  <a:srgbClr val="0033cc"/>
                </a:solidFill>
                <a:latin typeface="Arial Black"/>
              </a:rPr>
              <a:t>1960</a:t>
            </a:r>
            <a:r>
              <a:rPr b="0" lang="ja-JP" sz="2400" spc="-1" strike="noStrike">
                <a:solidFill>
                  <a:srgbClr val="0033cc"/>
                </a:solidFill>
                <a:latin typeface="Arial Black"/>
              </a:rPr>
              <a:t>年型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1920" y="2590920"/>
            <a:ext cx="996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  <a:ea typeface="SimHei"/>
              </a:rPr>
              <a:t>C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a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66240" y="2590920"/>
            <a:ext cx="17532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  <a:ea typeface="SimHei"/>
              </a:rPr>
              <a:t>C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ool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1972</a:t>
            </a:r>
            <a:r>
              <a:rPr b="0" lang="zh-CN" sz="2400" spc="-1" strike="noStrike">
                <a:solidFill>
                  <a:srgbClr val="0033cc"/>
                </a:solidFill>
                <a:latin typeface="Arial Black"/>
              </a:rPr>
              <a:t>年型）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200400"/>
            <a:ext cx="388620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3C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572000"/>
            <a:ext cx="6324480" cy="19051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HG創英角ｺﾞｼｯｸUB"/>
              </a:rPr>
              <a:t>生活に「豊かさ」を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HG創英角ｺﾞｼｯｸUB"/>
              </a:rPr>
              <a:t>求めた時代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１９８０～９０年代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76520" y="1523880"/>
            <a:ext cx="1981440" cy="198144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96040" y="1523880"/>
            <a:ext cx="1981080" cy="198144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95160" y="4038480"/>
            <a:ext cx="2095560" cy="198144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3124080" y="4495680"/>
            <a:ext cx="5410440" cy="16002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「個」の時代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楽しむ時代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6440" y="3564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  <a:ea typeface="HGPｺﾞｼｯｸE"/>
              </a:rPr>
              <a:t>１９７９年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9640" y="3533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  <a:ea typeface="HGPｺﾞｼｯｸE"/>
              </a:rPr>
              <a:t>１９８２年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2840" y="3533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  <a:ea typeface="HGPｺﾞｼｯｸE"/>
              </a:rPr>
              <a:t>１９８７年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6440" y="6078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 Black"/>
                <a:ea typeface="HGPｺﾞｼｯｸE"/>
              </a:rPr>
              <a:t>１９９５年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14240" y="1522440"/>
            <a:ext cx="2105280" cy="198288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HGｺﾞｼｯｸE"/>
              </a:rPr>
              <a:t>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２０００年代（現在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2125800"/>
            <a:ext cx="1760400" cy="1760400"/>
          </a:xfrm>
          <a:prstGeom prst="rect">
            <a:avLst/>
          </a:prstGeom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4724280" y="2100240"/>
            <a:ext cx="1752840" cy="1871640"/>
          </a:xfrm>
          <a:prstGeom prst="rect">
            <a:avLst/>
          </a:prstGeom>
          <a:solidFill>
            <a:srgbClr val="ffffff"/>
          </a:solidFill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67640" y="2100240"/>
            <a:ext cx="1752480" cy="1900440"/>
          </a:xfrm>
          <a:prstGeom prst="rect">
            <a:avLst/>
          </a:prstGeom>
          <a:solidFill>
            <a:srgbClr val="ffffff"/>
          </a:solidFill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5715000" cy="1981080"/>
          </a:xfrm>
          <a:prstGeom prst="ellipse">
            <a:avLst/>
          </a:prstGeom>
          <a:solidFill>
            <a:srgbClr val="ff9900"/>
          </a:solidFill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HGP創英角ｺﾞｼｯｸUB"/>
              </a:rPr>
              <a:t>情報化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HGP創英角ｺﾞｼｯｸUB"/>
              </a:rPr>
              <a:t>（ネット家電）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2419200"/>
            <a:ext cx="1295280" cy="121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72400" y="2286000"/>
            <a:ext cx="150948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66880" y="2075040"/>
            <a:ext cx="1752840" cy="1887480"/>
          </a:xfrm>
          <a:prstGeom prst="rect">
            <a:avLst/>
          </a:prstGeom>
          <a:solidFill>
            <a:srgbClr val="ffffff"/>
          </a:solidFill>
          <a:ln w="92160">
            <a:solidFill>
              <a:srgbClr val="9966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76720" y="2438280"/>
            <a:ext cx="6001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4160" y="79200"/>
            <a:ext cx="8534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  <a:ea typeface="HGｺﾞｼｯｸE"/>
              </a:rPr>
              <a:t>暮らしを変えた家電の今昔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842760"/>
            <a:ext cx="8534160" cy="570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HGSｺﾞｼｯｸE"/>
                <a:ea typeface="ＭＳ Ｐゴシック"/>
              </a:rPr>
              <a:t>全体年表</a:t>
            </a:r>
            <a:endParaRPr b="1" lang="en-US" sz="3200" spc="-1" strike="noStrike">
              <a:solidFill>
                <a:srgbClr val="000066"/>
              </a:solidFill>
              <a:latin typeface="HGSｺﾞｼｯｸ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81080"/>
          <a:ext cx="7543800" cy="343548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  <a:gridCol w="1257480"/>
                <a:gridCol w="1257120"/>
                <a:gridCol w="1257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１９５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ff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１９６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１９７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１９８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１９９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HGSｺﾞｼｯｸE"/>
                          <a:ea typeface="HGS創英角ｺﾞｼｯｸUB"/>
                        </a:rPr>
                        <a:t>２０００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38160">
                      <a:solidFill>
                        <a:srgbClr val="9966ff"/>
                      </a:solidFill>
                    </a:lnR>
                    <a:lnT w="38160">
                      <a:solidFill>
                        <a:srgbClr val="9966ff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5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ff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38160">
                      <a:solidFill>
                        <a:srgbClr val="9966ff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38160">
                      <a:solidFill>
                        <a:srgbClr val="99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705720" y="3352680"/>
            <a:ext cx="1981080" cy="17528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5" y="0"/>
                </a:lnTo>
                <a:lnTo>
                  <a:pt x="21600" y="10800"/>
                </a:lnTo>
                <a:lnTo>
                  <a:pt x="181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（情報化）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生活を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352680"/>
            <a:ext cx="2133720" cy="17528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5" y="0"/>
                </a:lnTo>
                <a:lnTo>
                  <a:pt x="21600" y="10800"/>
                </a:lnTo>
                <a:lnTo>
                  <a:pt x="181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生活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楽しむ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352680"/>
            <a:ext cx="2819160" cy="1752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5" y="0"/>
                </a:lnTo>
                <a:lnTo>
                  <a:pt x="21600" y="10800"/>
                </a:lnTo>
                <a:lnTo>
                  <a:pt x="181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生活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を豊かに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352680"/>
            <a:ext cx="2057400" cy="17528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5" y="0"/>
                </a:lnTo>
                <a:lnTo>
                  <a:pt x="21600" y="10800"/>
                </a:lnTo>
                <a:lnTo>
                  <a:pt x="181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生活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HGS創英角ｺﾞｼｯｸUB"/>
              </a:rPr>
              <a:t>を便利に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HGS創英角ｺﾞｼｯｸUB"/>
              </a:rPr>
              <a:t>２．　情報家電ってこんなイメージ</a:t>
            </a:r>
            <a:endParaRPr b="1" lang="en-US" sz="3600" spc="-1" strike="noStrike">
              <a:solidFill>
                <a:srgbClr val="ffffff"/>
              </a:solidFill>
              <a:latin typeface="HGS創英角ｺﾞｼｯｸUB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0" y="692280"/>
            <a:ext cx="902952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23:53:27Z</dcterms:created>
  <dc:creator>宇山葉子</dc:creator>
  <dc:description/>
  <dc:language>en-US</dc:language>
  <cp:lastModifiedBy>Panasonic</cp:lastModifiedBy>
  <dcterms:modified xsi:type="dcterms:W3CDTF">2005-01-29T06:34:09Z</dcterms:modified>
  <cp:revision>189</cp:revision>
  <dc:subject/>
  <dc:title>PowerPoint プレゼンテーション</dc:title>
</cp:coreProperties>
</file>