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bmp" ContentType="image/bmp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743040"/>
            <a:ext cx="9132840" cy="152280"/>
            <a:chOff x="0" y="743040"/>
            <a:chExt cx="9132840" cy="152280"/>
          </a:xfrm>
        </p:grpSpPr>
        <p:sp>
          <p:nvSpPr>
            <p:cNvPr id="2" name=""/>
            <p:cNvSpPr/>
            <p:nvPr/>
          </p:nvSpPr>
          <p:spPr>
            <a:xfrm>
              <a:off x="0" y="7430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50000">
                  <a:srgbClr val="ebebeb"/>
                </a:gs>
                <a:gs pos="100000">
                  <a:srgbClr val="bcbcbc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8571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7c7c7c"/>
                </a:gs>
                <a:gs pos="50000">
                  <a:srgbClr val="cecece"/>
                </a:gs>
                <a:gs pos="100000">
                  <a:srgbClr val="7c7c7c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bmp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image" Target="../media/image27.wmf"/><Relationship Id="rId11" Type="http://schemas.openxmlformats.org/officeDocument/2006/relationships/image" Target="../media/image28.wmf"/><Relationship Id="rId12" Type="http://schemas.openxmlformats.org/officeDocument/2006/relationships/image" Target="../media/image29.wmf"/><Relationship Id="rId13" Type="http://schemas.openxmlformats.org/officeDocument/2006/relationships/image" Target="../media/image30.wmf"/><Relationship Id="rId14" Type="http://schemas.openxmlformats.org/officeDocument/2006/relationships/image" Target="../media/image31.wmf"/><Relationship Id="rId15" Type="http://schemas.openxmlformats.org/officeDocument/2006/relationships/image" Target="../media/image32.wmf"/><Relationship Id="rId16" Type="http://schemas.openxmlformats.org/officeDocument/2006/relationships/image" Target="../media/image33.wmf"/><Relationship Id="rId17" Type="http://schemas.openxmlformats.org/officeDocument/2006/relationships/image" Target="../media/image34.wmf"/><Relationship Id="rId18" Type="http://schemas.openxmlformats.org/officeDocument/2006/relationships/image" Target="../media/image35.wmf"/><Relationship Id="rId19" Type="http://schemas.openxmlformats.org/officeDocument/2006/relationships/image" Target="../media/image36.wmf"/><Relationship Id="rId20" Type="http://schemas.openxmlformats.org/officeDocument/2006/relationships/image" Target="../media/image37.wmf"/><Relationship Id="rId21" Type="http://schemas.openxmlformats.org/officeDocument/2006/relationships/image" Target="../media/image38.wm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1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‹</a:t>
            </a:r>
            <a:r>
              <a:rPr b="0" lang="en-US" sz="3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³ˆç‚Ìî•ñ‰»‚ÉŒW‚í‚éŽæ‚è‘g‚Ý‚É‚Â‚¢‚Ä</a:t>
            </a: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`ƒ|ƒXƒg‚P‚O‚OZƒvƒƒWƒFƒNƒgi‰¼Ìj‚ð’†S‚Æ‚µ‚Ä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½¬‚P‚P”N‚RŒŽ‚P‚P“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Ê¤ŽY‹ÆÈ‹@ŠBî•ñŽY‹Æ‹Çî•ñˆ—U‹»‰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498840" y="3651120"/>
            <a:ext cx="1841400" cy="130824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|ƒXƒg‚P‚O‚O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vƒƒWƒFƒNƒ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581280" y="4952880"/>
            <a:ext cx="161928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^‰cF‚h‚o‚`A‚b‚d‚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371600" y="2971800"/>
            <a:ext cx="2216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³ˆç‚Ìî•ñ‰»„iŽ–‹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6019920" y="3048120"/>
            <a:ext cx="485640" cy="8604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6095880" y="4754520"/>
            <a:ext cx="309600" cy="10033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666880" y="2971800"/>
            <a:ext cx="991080" cy="991080"/>
          </a:xfrm>
          <a:custGeom>
            <a:avLst/>
            <a:gdLst/>
            <a:ahLst/>
            <a:rect l="0" t="0" r="r" b="b"/>
            <a:pathLst>
              <a:path w="2753" h="2753">
                <a:moveTo>
                  <a:pt x="1823" y="1064"/>
                </a:moveTo>
                <a:lnTo>
                  <a:pt x="1641" y="1035"/>
                </a:lnTo>
                <a:lnTo>
                  <a:pt x="1476" y="978"/>
                </a:lnTo>
                <a:lnTo>
                  <a:pt x="1335" y="884"/>
                </a:lnTo>
                <a:lnTo>
                  <a:pt x="1194" y="769"/>
                </a:lnTo>
                <a:lnTo>
                  <a:pt x="1076" y="589"/>
                </a:lnTo>
                <a:lnTo>
                  <a:pt x="994" y="416"/>
                </a:lnTo>
                <a:lnTo>
                  <a:pt x="935" y="208"/>
                </a:lnTo>
                <a:lnTo>
                  <a:pt x="912" y="0"/>
                </a:lnTo>
                <a:lnTo>
                  <a:pt x="0" y="57"/>
                </a:lnTo>
                <a:lnTo>
                  <a:pt x="64" y="502"/>
                </a:lnTo>
                <a:lnTo>
                  <a:pt x="164" y="884"/>
                </a:lnTo>
                <a:lnTo>
                  <a:pt x="346" y="1243"/>
                </a:lnTo>
                <a:lnTo>
                  <a:pt x="570" y="1567"/>
                </a:lnTo>
                <a:lnTo>
                  <a:pt x="830" y="1833"/>
                </a:lnTo>
                <a:lnTo>
                  <a:pt x="1135" y="2012"/>
                </a:lnTo>
                <a:lnTo>
                  <a:pt x="1459" y="2164"/>
                </a:lnTo>
                <a:lnTo>
                  <a:pt x="1823" y="2193"/>
                </a:lnTo>
                <a:lnTo>
                  <a:pt x="1823" y="2193"/>
                </a:lnTo>
                <a:lnTo>
                  <a:pt x="1823" y="2753"/>
                </a:lnTo>
                <a:lnTo>
                  <a:pt x="2753" y="1624"/>
                </a:lnTo>
                <a:lnTo>
                  <a:pt x="1823" y="502"/>
                </a:lnTo>
                <a:lnTo>
                  <a:pt x="1823" y="1064"/>
                </a:lnTo>
                <a:close/>
              </a:path>
            </a:pathLst>
          </a:cu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600200" y="3809880"/>
            <a:ext cx="1346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¬‰Ê‚ð”½‰f‚µ•‹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943600" y="2666880"/>
            <a:ext cx="1684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î•ñ‰»‚Éæi“I‚Èæ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943600" y="5745240"/>
            <a:ext cx="2097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î•ñ‰»‚É‰‚ß‚ÄŽæ‚è‘g‚Þæ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27640" y="4824360"/>
            <a:ext cx="470160" cy="317880"/>
          </a:xfrm>
          <a:custGeom>
            <a:avLst/>
            <a:gdLst/>
            <a:ahLst/>
            <a:rect l="0" t="0" r="r" b="b"/>
            <a:pathLst>
              <a:path w="1306" h="883">
                <a:moveTo>
                  <a:pt x="0" y="294"/>
                </a:moveTo>
                <a:lnTo>
                  <a:pt x="0" y="588"/>
                </a:lnTo>
                <a:lnTo>
                  <a:pt x="914" y="588"/>
                </a:lnTo>
                <a:lnTo>
                  <a:pt x="914" y="883"/>
                </a:lnTo>
                <a:lnTo>
                  <a:pt x="1306" y="441"/>
                </a:lnTo>
                <a:lnTo>
                  <a:pt x="914" y="0"/>
                </a:lnTo>
                <a:lnTo>
                  <a:pt x="914" y="294"/>
                </a:lnTo>
                <a:lnTo>
                  <a:pt x="0" y="294"/>
                </a:lnTo>
                <a:close/>
              </a:path>
            </a:pathLst>
          </a:cu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51320" y="3270240"/>
            <a:ext cx="470160" cy="317880"/>
          </a:xfrm>
          <a:custGeom>
            <a:avLst/>
            <a:gdLst/>
            <a:ahLst/>
            <a:rect l="0" t="0" r="r" b="b"/>
            <a:pathLst>
              <a:path w="1306" h="883">
                <a:moveTo>
                  <a:pt x="0" y="294"/>
                </a:moveTo>
                <a:lnTo>
                  <a:pt x="0" y="588"/>
                </a:lnTo>
                <a:lnTo>
                  <a:pt x="914" y="588"/>
                </a:lnTo>
                <a:lnTo>
                  <a:pt x="914" y="883"/>
                </a:lnTo>
                <a:lnTo>
                  <a:pt x="1306" y="441"/>
                </a:lnTo>
                <a:lnTo>
                  <a:pt x="914" y="0"/>
                </a:lnTo>
                <a:lnTo>
                  <a:pt x="914" y="294"/>
                </a:lnTo>
                <a:lnTo>
                  <a:pt x="0" y="294"/>
                </a:lnTo>
                <a:close/>
              </a:path>
            </a:pathLst>
          </a:cu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27640" y="3575160"/>
            <a:ext cx="470160" cy="317880"/>
          </a:xfrm>
          <a:custGeom>
            <a:avLst/>
            <a:gdLst/>
            <a:ahLst/>
            <a:rect l="0" t="0" r="r" b="b"/>
            <a:pathLst>
              <a:path w="1306" h="883">
                <a:moveTo>
                  <a:pt x="1306" y="294"/>
                </a:moveTo>
                <a:lnTo>
                  <a:pt x="1306" y="588"/>
                </a:lnTo>
                <a:lnTo>
                  <a:pt x="391" y="588"/>
                </a:lnTo>
                <a:lnTo>
                  <a:pt x="391" y="883"/>
                </a:lnTo>
                <a:lnTo>
                  <a:pt x="0" y="441"/>
                </a:lnTo>
                <a:lnTo>
                  <a:pt x="391" y="0"/>
                </a:lnTo>
                <a:lnTo>
                  <a:pt x="391" y="294"/>
                </a:lnTo>
                <a:lnTo>
                  <a:pt x="1306" y="294"/>
                </a:lnTo>
                <a:close/>
              </a:path>
            </a:pathLst>
          </a:cu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477120" y="483084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eŽíî•ñ‚ð“üŽè‚µAŠwZ‚Ìî•ñ‰»‚ÉŽæ‚è‘g‚Þ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553080" y="3048120"/>
            <a:ext cx="16765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æi“IŒ¤‹†‚ÉŽæ‚è‘g‚Þ‚Æ‚Æ‚à‚ÉA‘¼‚Ì‹³ˆõ“™‚Ìì¬‚µ‚½ƒRƒ“ƒeƒ“ƒc“™‚ð—˜—p‚·‚é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410080" y="4114800"/>
            <a:ext cx="228960" cy="381240"/>
          </a:xfrm>
          <a:custGeom>
            <a:avLst/>
            <a:gdLst/>
            <a:ahLst/>
            <a:rect l="0" t="0" r="r" b="b"/>
            <a:pathLst>
              <a:path w="636" h="1059">
                <a:moveTo>
                  <a:pt x="317" y="0"/>
                </a:moveTo>
                <a:lnTo>
                  <a:pt x="636" y="211"/>
                </a:lnTo>
                <a:lnTo>
                  <a:pt x="477" y="211"/>
                </a:lnTo>
                <a:lnTo>
                  <a:pt x="477" y="847"/>
                </a:lnTo>
                <a:lnTo>
                  <a:pt x="636" y="847"/>
                </a:lnTo>
                <a:lnTo>
                  <a:pt x="317" y="1059"/>
                </a:lnTo>
                <a:lnTo>
                  <a:pt x="0" y="847"/>
                </a:lnTo>
                <a:lnTo>
                  <a:pt x="158" y="847"/>
                </a:lnTo>
                <a:lnTo>
                  <a:pt x="158" y="211"/>
                </a:lnTo>
                <a:lnTo>
                  <a:pt x="0" y="211"/>
                </a:lnTo>
                <a:lnTo>
                  <a:pt x="317" y="0"/>
                </a:lnTo>
                <a:close/>
              </a:path>
            </a:pathLst>
          </a:cu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570640" y="4191120"/>
            <a:ext cx="2735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ˆÓŒ©ŒðŠ·‚È‚Ç‚ð’Ê‚¶‚Ä‘ŠŒÝ‚ÉvŒ£‚µ‡‚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66880" y="4648320"/>
            <a:ext cx="991080" cy="991080"/>
          </a:xfrm>
          <a:custGeom>
            <a:avLst/>
            <a:gdLst/>
            <a:ahLst/>
            <a:rect l="0" t="0" r="r" b="b"/>
            <a:pathLst>
              <a:path w="2753" h="2753">
                <a:moveTo>
                  <a:pt x="1823" y="1674"/>
                </a:moveTo>
                <a:lnTo>
                  <a:pt x="1641" y="1710"/>
                </a:lnTo>
                <a:lnTo>
                  <a:pt x="1476" y="1746"/>
                </a:lnTo>
                <a:lnTo>
                  <a:pt x="1335" y="1861"/>
                </a:lnTo>
                <a:lnTo>
                  <a:pt x="1194" y="2012"/>
                </a:lnTo>
                <a:lnTo>
                  <a:pt x="1076" y="2157"/>
                </a:lnTo>
                <a:lnTo>
                  <a:pt x="994" y="2344"/>
                </a:lnTo>
                <a:lnTo>
                  <a:pt x="935" y="2530"/>
                </a:lnTo>
                <a:lnTo>
                  <a:pt x="912" y="2753"/>
                </a:lnTo>
                <a:lnTo>
                  <a:pt x="0" y="2681"/>
                </a:lnTo>
                <a:lnTo>
                  <a:pt x="64" y="2236"/>
                </a:lnTo>
                <a:lnTo>
                  <a:pt x="164" y="1861"/>
                </a:lnTo>
                <a:lnTo>
                  <a:pt x="346" y="1488"/>
                </a:lnTo>
                <a:lnTo>
                  <a:pt x="570" y="1193"/>
                </a:lnTo>
                <a:lnTo>
                  <a:pt x="830" y="934"/>
                </a:lnTo>
                <a:lnTo>
                  <a:pt x="1135" y="705"/>
                </a:lnTo>
                <a:lnTo>
                  <a:pt x="1459" y="596"/>
                </a:lnTo>
                <a:lnTo>
                  <a:pt x="1823" y="560"/>
                </a:lnTo>
                <a:lnTo>
                  <a:pt x="1823" y="560"/>
                </a:lnTo>
                <a:lnTo>
                  <a:pt x="1823" y="0"/>
                </a:lnTo>
                <a:lnTo>
                  <a:pt x="2753" y="1114"/>
                </a:lnTo>
                <a:lnTo>
                  <a:pt x="1823" y="2236"/>
                </a:lnTo>
                <a:lnTo>
                  <a:pt x="1823" y="1674"/>
                </a:lnTo>
                <a:close/>
              </a:path>
            </a:pathLst>
          </a:cu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085840" y="5257800"/>
            <a:ext cx="79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Y‹ÆŠ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101680" y="4525920"/>
            <a:ext cx="793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eŽí‹¦—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52280" y="2286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„i•û–@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52280" y="9907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¡ŒãAã‹LƒvƒƒWƒFƒNƒg‚ð‰~ŠŠ‚É„i‚µ‚Ä‚¢‚­‚É‚ ‚½‚èAî•ñˆ—U‹»Ž–‹Æ‹¦‰ï‚ÆiàjƒRƒ“ƒsƒ…[ƒ^‹³ˆçŠJ”­ƒZƒ“ƒ^|‚Å‰^—p‚ðs‚Á‚Ä‚¢‚­B‚Ü‚½A‹³ˆç‚Ìî•ñ‰»‚ð„‚é‹c˜_‚â‹¤“¯Œ¤‹†“™‚ÌŠé‰æ‚ðs‚¤‚½‚ß‚ÌŠeŽíˆÏˆõ‰ï‚È‚ÇŒð—¬‰ï‚â•‹y‚Ì‚½‚ß‚ÌƒZƒ~ƒi[‚È‚Ç‚ðŽÀŽ{‚µ‚Ä‚¢‚­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52280" y="2286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ƒvƒƒWƒFƒNƒg‚Ì–¼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52280" y="990720"/>
            <a:ext cx="883908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{ƒvƒƒWƒFƒNƒg‚Ì–¼Ì‚É‚Â‚¢‚Ä‚ÍAî•ñ‰»‚Ìæi“IŽ–—á‚ÆV‚µ‚­î•ñ‰»‚ÉŽæ‚è‘g‚Þ‹³ˆçŒ»ê‚Æ‚ÌŒð—¬‚Ìê‚Å‚ ‚èA‚Ü‚½A‘ŠŒÝ‚Ì˜A—E—L‹@“I˜AŒg‚Ì‰Ë‚¯‹´‚Å‚ ‚é‚Æ‚±‚ë‚©‚çAˆÈ‰º‚Ì‚æ‚¤‚È–¼ÌˆÄ‚ðl‚¦‚Ä‚¢‚é‚ªAƒCƒ“ƒ^[ƒlƒbƒg‚É‚æ‚èŒö•å‚ð‚©‚¯AŽÀÛ‚Ì‹³ˆçŒ»ê‚©‚ç‚Ìº‚ð”½‰f‚·‚é‚±‚Æ‚Æ‚µ‚½‚¢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682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iˆÄ‚Ì‚PjLearning WebƒvƒƒWƒFƒNƒ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Ž©—§‹¤–ù“I‚È‹¦“­ŠwK‚Æ‚¢‚¤ŽÐ‰ïŽv‘z‰ÆƒCƒ”ƒ@ƒ“EƒCƒŠƒCƒ`‚Ì¥‚¦‚éLearning Web‚ÌŠT”O‚ðŠwZ‚É‚¨‚¢‚ÄŽÀŒ»‚·‚éƒvƒƒWƒFƒNƒg‚Æ‚¢‚¤ˆÓ–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682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iˆÄ‚Ì‚QjSchool Square ƒvƒƒWƒFƒNƒ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ŠX‚Ì’†SLê‚Ì—l‚ÉA‹³ˆç‚ÉŠÖŒW‚·‚é‘S‚Ä‚Ìl‚ªŽ©—R‚Éo“ü‚è‚µAî•ñŒðŠ·A‹c˜_A‹¤“¯ì‹Æ“™‚ÌŒð—¬‚ðs‚¤ƒvƒƒWƒFƒNƒg‚Æ‚¢‚¤ˆÓ–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682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iˆÄ‚Ì‚Rj‚P‚O‚OZSquare ƒvƒƒWƒFƒNƒgi‚P‚O‚OZ‚QƒvƒƒWƒFƒNƒg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ã‹L‚ÌLê‚Æ‚¢‚¤ˆÓ–¡‚É‰Á‚¦‚ÄA”NŠÔ10,000Z‘‰Á‚·‚éŠwZ‚ðŽx‰‡‚·‚é‚Æ‚¢‚¤ˆÓ–¡‚ÅA‚P‚O‚OZ‚Ì‚Qæi10,000Zj‚ÆŒ¾‚¤ˆÓ–¡‚ð•¹‚¹Ž‚Â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682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i‚»‚Ì‘¼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Ž©—R‚ÈˆÓŒ©‚ð•åW’†‚Å‚·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727440" y="5175360"/>
            <a:ext cx="1689120" cy="69840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|ƒXƒg‚P‚O‚O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vƒƒWƒFƒNƒ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060560" y="5251320"/>
            <a:ext cx="2070000" cy="46980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¯ŠÔƒvƒƒWƒFƒNƒ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498840" y="4336920"/>
            <a:ext cx="2070000" cy="46980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³ˆç‚Ìî•ñ‰»„iŽ–‹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498840" y="6318360"/>
            <a:ext cx="2070000" cy="46980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æi“I‹³ˆç—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¯ÄÜ°¸ÓÃÞÙ’nˆæŽ–‹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52280" y="2286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ƒvƒƒWƒFƒNƒg‚ÌˆÊ’u•t‚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52280" y="9907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ƒ|ƒXƒg‚P‚O‚OZƒvƒƒWƒFƒNƒg‚ÉŠÖŒW‚·‚é‚Æl‚¦‚ç‚ê‚é‹³ˆç‚Ìî•ñ‰»ŠÖ˜A‚ÌƒvƒƒWƒFƒNƒg‚Í•¡”ŽÀŽ{‚³‚ê‚Ä‚¢‚é‚ªAŠeƒvƒƒWƒFƒNƒg‚Æ‚Í‹¦’²‚µ‚ÄŽ–‹Æ‚ði‚ß‚Ä‚¢‚­—\’è‚Å‚ ‚é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‹</a:t>
            </a:r>
            <a:r>
              <a:rPr b="0" lang="en-US" sz="16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³ˆç‚Ìî•ñ‰»„iŽ–‹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½¬‚P‚P”N‰Ä ‚©‚ço‚Ä‚­‚é¬‰Ê‚ðAƒ|ƒXƒg‚P‚O‚OZƒvƒƒWƒFƒNƒg‚Ö”½‰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æi“I‹³ˆç—pƒlƒbƒgƒ[ƒNƒ‚ƒfƒ‹’nˆæŽ–‹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ŠwZŒü‚¯î•ñ‚É‚Â‚¢‚Ä˜AŒgE‹¦—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¯ŠÔƒvƒƒWƒFƒNƒ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‚</a:t>
            </a:r>
            <a:r>
              <a:rPr b="0" lang="en-US" sz="1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±‚Ë‚Á‚Æƒvƒ‰ƒ“AƒƒfƒBƒAƒLƒbƒY“™‚ÌƒvƒƒWƒFƒNƒg‚â‘åŠw‚È‚Ç‚“™‹³ˆç‹@ŠÖ“™‚Æ‹¦—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ƒo[ƒ`ƒƒƒ‹ƒG[ƒWƒFƒ“ƒV[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‚</a:t>
            </a:r>
            <a:r>
              <a:rPr b="0" lang="en-US" sz="1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·‚×‚Ä‚Ì¬‰Ê‚ðƒo[ƒ`ƒƒƒ‹ƒG[ƒWƒFƒ“ƒV[‚Ì˜g‘g‚Ý‚Ö”½‰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336920" y="4870440"/>
            <a:ext cx="394200" cy="241560"/>
          </a:xfrm>
          <a:custGeom>
            <a:avLst/>
            <a:gdLst/>
            <a:ahLst/>
            <a:rect l="0" t="0" r="r" b="b"/>
            <a:pathLst>
              <a:path w="1095" h="671">
                <a:moveTo>
                  <a:pt x="0" y="223"/>
                </a:moveTo>
                <a:lnTo>
                  <a:pt x="0" y="447"/>
                </a:lnTo>
                <a:lnTo>
                  <a:pt x="766" y="447"/>
                </a:lnTo>
                <a:lnTo>
                  <a:pt x="766" y="671"/>
                </a:lnTo>
                <a:lnTo>
                  <a:pt x="1095" y="336"/>
                </a:lnTo>
                <a:lnTo>
                  <a:pt x="766" y="0"/>
                </a:lnTo>
                <a:lnTo>
                  <a:pt x="766" y="223"/>
                </a:lnTo>
                <a:lnTo>
                  <a:pt x="0" y="223"/>
                </a:lnTo>
                <a:close/>
              </a:path>
            </a:pathLst>
          </a:cu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479920" y="5327640"/>
            <a:ext cx="394200" cy="394200"/>
          </a:xfrm>
          <a:custGeom>
            <a:avLst/>
            <a:gdLst/>
            <a:ahLst/>
            <a:rect l="0" t="0" r="r" b="b"/>
            <a:pathLst>
              <a:path w="1095" h="1095">
                <a:moveTo>
                  <a:pt x="0" y="365"/>
                </a:moveTo>
                <a:lnTo>
                  <a:pt x="0" y="729"/>
                </a:lnTo>
                <a:lnTo>
                  <a:pt x="766" y="729"/>
                </a:lnTo>
                <a:lnTo>
                  <a:pt x="766" y="1095"/>
                </a:lnTo>
                <a:lnTo>
                  <a:pt x="1095" y="547"/>
                </a:lnTo>
                <a:lnTo>
                  <a:pt x="766" y="0"/>
                </a:lnTo>
                <a:lnTo>
                  <a:pt x="766" y="365"/>
                </a:lnTo>
                <a:lnTo>
                  <a:pt x="0" y="365"/>
                </a:lnTo>
                <a:close/>
              </a:path>
            </a:pathLst>
          </a:cu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00400" y="5334120"/>
            <a:ext cx="457560" cy="381240"/>
          </a:xfrm>
          <a:custGeom>
            <a:avLst/>
            <a:gdLst/>
            <a:ahLst/>
            <a:rect l="0" t="0" r="r" b="b"/>
            <a:pathLst>
              <a:path w="1271" h="1059">
                <a:moveTo>
                  <a:pt x="0" y="530"/>
                </a:moveTo>
                <a:lnTo>
                  <a:pt x="255" y="1059"/>
                </a:lnTo>
                <a:lnTo>
                  <a:pt x="255" y="794"/>
                </a:lnTo>
                <a:lnTo>
                  <a:pt x="1015" y="794"/>
                </a:lnTo>
                <a:lnTo>
                  <a:pt x="1015" y="1059"/>
                </a:lnTo>
                <a:lnTo>
                  <a:pt x="1271" y="530"/>
                </a:lnTo>
                <a:lnTo>
                  <a:pt x="1015" y="0"/>
                </a:lnTo>
                <a:lnTo>
                  <a:pt x="1015" y="264"/>
                </a:lnTo>
                <a:lnTo>
                  <a:pt x="255" y="264"/>
                </a:lnTo>
                <a:lnTo>
                  <a:pt x="255" y="0"/>
                </a:lnTo>
                <a:lnTo>
                  <a:pt x="0" y="530"/>
                </a:lnTo>
                <a:close/>
              </a:path>
            </a:pathLst>
          </a:cu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81560" y="590544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424" y="1059"/>
                </a:moveTo>
                <a:lnTo>
                  <a:pt x="848" y="849"/>
                </a:lnTo>
                <a:lnTo>
                  <a:pt x="637" y="849"/>
                </a:lnTo>
                <a:lnTo>
                  <a:pt x="637" y="209"/>
                </a:lnTo>
                <a:lnTo>
                  <a:pt x="848" y="209"/>
                </a:lnTo>
                <a:lnTo>
                  <a:pt x="424" y="0"/>
                </a:lnTo>
                <a:lnTo>
                  <a:pt x="0" y="209"/>
                </a:lnTo>
                <a:lnTo>
                  <a:pt x="211" y="209"/>
                </a:lnTo>
                <a:lnTo>
                  <a:pt x="211" y="849"/>
                </a:lnTo>
                <a:lnTo>
                  <a:pt x="0" y="849"/>
                </a:lnTo>
                <a:lnTo>
                  <a:pt x="424" y="1059"/>
                </a:lnTo>
                <a:close/>
              </a:path>
            </a:pathLst>
          </a:cu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718160" y="5896080"/>
            <a:ext cx="590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¦—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124080" y="5683320"/>
            <a:ext cx="590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¦—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667400" y="4800600"/>
            <a:ext cx="590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‰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335560" y="5029200"/>
            <a:ext cx="590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˜AŒ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394320" y="4336920"/>
            <a:ext cx="2222640" cy="245124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o[ƒ`ƒƒƒ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G[ƒWƒFƒ“ƒV[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774760" y="4668840"/>
            <a:ext cx="397440" cy="380520"/>
          </a:xfrm>
          <a:custGeom>
            <a:avLst/>
            <a:gdLst/>
            <a:ahLst/>
            <a:rect l="0" t="0" r="r" b="b"/>
            <a:pathLst>
              <a:path w="1104" h="1057">
                <a:moveTo>
                  <a:pt x="94" y="153"/>
                </a:moveTo>
                <a:lnTo>
                  <a:pt x="0" y="505"/>
                </a:lnTo>
                <a:lnTo>
                  <a:pt x="740" y="704"/>
                </a:lnTo>
                <a:lnTo>
                  <a:pt x="645" y="1057"/>
                </a:lnTo>
                <a:lnTo>
                  <a:pt x="1104" y="614"/>
                </a:lnTo>
                <a:lnTo>
                  <a:pt x="928" y="0"/>
                </a:lnTo>
                <a:lnTo>
                  <a:pt x="834" y="351"/>
                </a:lnTo>
                <a:lnTo>
                  <a:pt x="94" y="153"/>
                </a:lnTo>
                <a:close/>
              </a:path>
            </a:pathLst>
          </a:cu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774400" y="5999760"/>
            <a:ext cx="397800" cy="380520"/>
          </a:xfrm>
          <a:custGeom>
            <a:avLst/>
            <a:gdLst/>
            <a:ahLst/>
            <a:rect l="0" t="0" r="r" b="b"/>
            <a:pathLst>
              <a:path w="1105" h="1057">
                <a:moveTo>
                  <a:pt x="0" y="550"/>
                </a:moveTo>
                <a:lnTo>
                  <a:pt x="94" y="902"/>
                </a:lnTo>
                <a:lnTo>
                  <a:pt x="835" y="704"/>
                </a:lnTo>
                <a:lnTo>
                  <a:pt x="930" y="1057"/>
                </a:lnTo>
                <a:lnTo>
                  <a:pt x="1105" y="443"/>
                </a:lnTo>
                <a:lnTo>
                  <a:pt x="646" y="0"/>
                </a:lnTo>
                <a:lnTo>
                  <a:pt x="740" y="351"/>
                </a:lnTo>
                <a:lnTo>
                  <a:pt x="0" y="550"/>
                </a:lnTo>
                <a:close/>
              </a:path>
            </a:pathLst>
          </a:cu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52280" y="2286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¡Œã‚ÌŒŸ“¢•û–@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52280" y="990720"/>
            <a:ext cx="8839080" cy="6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ƒ|ƒXƒg‚P‚O‚OZƒvƒƒWƒFƒNƒg‚ÍAŽQ‰Á‚·‚é•ûX‚ÌˆÓŒ©‚ÉŠî‚Ã‚«A‚æ‚è—Ç‚¢ƒvƒƒWƒFƒNƒg‚É‚µ‚Ä‚¢‚«‚½‚¢‚Æl‚¦‚Ä‚¨‚è‚Ü‚·B‚»‚±‚ÅA‚P‚O‚OZƒvƒƒWƒFƒNƒg‚Å‰^‰c‚µ‚Ä‚«‚½‹³ˆçŠÖŒWŽÒ‚Ìƒ[ƒŠƒ“ƒOƒŠƒXƒguaimitenov‚Ì’†‚ÅA‹³ˆçŒ»ê‚Ìæ¶•û‚ð‚Í‚¶‚ß‹³ˆçˆÏˆõ‰ï‚Ì•ûX“™L‚­‹³ˆçŠÖŒWŽÒ‚Ì•ûX‚Æ‹c˜_‚µ‚È‚ª‚çƒvƒƒWƒFƒNƒg“à—e‚ðŒˆ‚ß‚Ä‚¢‚­—\’è‚Å‚·Bu‚±‚Ì‚æ‚¤‚ÈƒvƒƒWƒFƒNƒg‚ðs‚¢‚½‚¢vu‚±‚Ì‚æ‚¤‚ÈƒT[ƒrƒX‚ð’ñ‹Ÿ‚µ‚Ä—~‚µ‚¢v‚Ü‚½u‚±‚Ì‚æ‚¤‚ÈƒT[ƒrƒX‚Í•s—vv“™Aƒ[ƒŠƒ“ƒOƒŠƒXƒgã‚Å‚ÌŠõœÝ‚Ì‚È‚¢ˆÓŒ©‚ð‚SŒŽ‚W“ú‚Ü‚Å‚É‚¨Šñ‚¹‚¢‚½‚¾‚«‚Ü‚·‚æ‚¤‚æ‚ë‚µ‚­‚¨Šè‚¢\‚µã‚°‚Ü‚·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‚</a:t>
            </a:r>
            <a:r>
              <a:rPr b="0" lang="en-US" sz="16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Ü‚½AƒCƒ“ƒ^[ƒlƒbƒg‚ÌŠÂ‹«‚ð‚¨Ž‚¿‚Å‚È‚¢ŠwZ‚à‘½‚¢‚½‚ßA‚e‚`‚w‚Å‚à‚²ˆÓŒ©‚ðŽó‚¯•t‚¯‚Ü‚·‚Ì‚Å‰º‹L‚Ì‚e‚`‚w”Ô†‚Ü‚Å‚æ‚ë‚µ‚­‚¨Šè‚¢\‚µã‚°‚Ü‚·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6280" indent="64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ƒ[ƒŠƒ“ƒOƒŠƒXƒgFiàjƒRƒ“ƒsƒ…[ƒ^‹³ˆçŠJ”­ƒZƒ“ƒ^|@‚P‚O‚OZƒvƒƒWƒFƒNƒgƒ[ƒŠƒ“ƒOƒŠƒXƒ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6280" indent="64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@@ŽQ‰Á•û–@@@@@@@@@@@@@@@@@@@@@@@@@@@@@@@@@@uaimiteno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6280" indent="64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@@@@@@@@iŠù‚É“o˜^‚³‚ê‚Ä‚¢‚é•û‚ÍAÄ“x“o˜^‚·‚é•K—v‚Í‚ ‚è‚Ü‚¹‚ñB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6280" indent="64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@@@@@@@@@http://www.cec.or.jp/net98/shin100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6280" indent="64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‡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@ ¶‚ÌƒtƒŒ[ƒ€‚©‚ç‚P‚O‚OZƒvƒƒWƒFƒNƒg‚ð‘I‘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6280" indent="64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‡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A ‰E‚ÌƒtƒŒ[ƒ€‚©‚ç’ñ‹ŸƒT[ƒrƒXî•ñ‚ð‘I‘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6280" indent="64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‡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B ƒ[ƒŠƒ“ƒOƒŠƒXƒg‚ð‘I‘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6280" indent="64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‡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C Žå‚Èƒ[ƒŠƒ“ƒOƒŠƒXƒg‚ð‘I‘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6280" indent="64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‡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D u‚ ‚¢‚Ý‚Ä‚Ìv‚ÌÚ‚µ‚¢ˆÄ“à‚Ìƒy[ƒW‚ð‘I‘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6280" indent="64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‡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E “o˜^•û–@‚É]‚¢“o˜^‚ðs‚Á‚Ä‚­‚¾‚³‚¢iƒ[ƒ‹ƒAƒhƒŒƒX‚ð“o˜^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6280" indent="64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‡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F ƒ[ƒŠƒ“ƒOƒŠƒXƒg‚ÉŽQ‰Á‚Å‚«‚é‚æ‚¤‚É‚È‚è‚Ü‚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6280" indent="64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‚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e‚`‚wFiàjƒRƒ“ƒsƒ…[ƒ^‹³ˆçŠJ”­ƒZƒ“ƒ^|@ƒ|ƒXƒg‚P‚O‚OZƒvƒƒWƒFƒNƒgŒW@ˆ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6280" indent="64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@@@@@@@@@@‚O‚R|‚R‚T‚X‚R|‚P‚W‚O‚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‚</a:t>
            </a:r>
            <a:r>
              <a:rPr b="0" lang="en-US" sz="16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È‚¨AVƒvƒƒWƒFƒNƒg‚Í‚TŒŽ‚P‚O“úŠJŽn‚ð—\’è‚µ‚Ä‚¨‚è‚Ü‚·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52280" y="2286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‚</a:t>
            </a:r>
            <a:r>
              <a:rPr b="0" lang="en-US" sz="2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±‚ê‚Ü‚Å‚ÌŽæ‚è‘g‚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280" y="990720"/>
            <a:ext cx="8839080" cy="62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‚</a:t>
            </a:r>
            <a:r>
              <a:rPr b="0" lang="en-US" sz="18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P‚O‚OZƒvƒƒWƒFƒNƒ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S‘‚P‚O‚O‚©Š’ö“x‚Ì¬ŠwZA’†ŠwZA‚“™ŠwZA“ÁŽê‹³ˆç”ŠwZA‹³ˆçƒZƒ“ƒ^[“™‚ÉƒCƒ“ƒ^[ƒlƒbƒgÚ‘±ŠÂ‹«‚ðæ“±“I‚É“±“ü‚µAƒCƒ“ƒ^[ƒlƒbƒg‚ð—˜—p‚µ‚½‹³ˆçEŠwK‚ÌŽÀ‘HŠˆ“®‚ðs‚¤‚à‚ÌB•½¬‚U”N“x‚©‚ç•¶•”È‚Æ‚Ì‹¦—Í‚Ì‰º‚ÅŽÀŽ{‚µ‚½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u“ú–{‚Ìî•ñ‰»„i‚Ì‚½‚ß‚É‹³ˆç•ª–ì‚ðŠÜ‚ß‚½Œö‹¤•ª–ì‚Ìî•ñ‰»“™‚ð„i‚·‚×‚«‚Å‚ ‚év‚Æ‚ÌŽY‹Æ\‘¢R‹c‰ïî•ñŽY‹Æ•”‰ï‚Ì•ñi•½¬‚T”N‚UŒŽj‚ðŽó‚¯A’ÊŽYÈ‚Å‚Í­•{‚Æ‚µ‚ÄŽÀs‚·‚×‚«­ôƒvƒƒOƒ‰ƒ€‚Æ‚µ‚Ä•½¬‚U”N‚TŒŽ‚Éu‚“xî•ñ‰»ƒvƒƒOƒ‰ƒ€v‚ð”­•\B‚±‚Ì’†‚ÅA‹³ˆç•ª–ì‚Ìî•ñ‰»„i‚Ì‚½‚ß‚Ì‹ï‘Ì“IŽ{ô‚Æ‚µ‚Ä‚P‚O‚OZƒvƒƒWƒFƒNƒg‚ð’ñˆÄ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½¬‚U”N‚WŒŽ‚É‹³ˆçˆÏˆõ‰ï‚ð’Ê‚¶‚Ä•åW—v€‚ð”z•zB1,543Z‚Ì‰ž•å‚ª‚ ‚èA‚»‚Ì’†‚©‚çŠeŠwZ‚É‚¨‚¯‚éƒRƒ“ƒsƒ…[ƒ^‚Ì‹³ˆç—˜—p‚Ìó‹µAƒCƒ“ƒ^[ƒlƒbƒg‚ð—˜—p‚µ‚½ŽÀ‘HŠˆ“®‚ÌƒAƒCƒfƒBƒA‚ð‚à‚Æ‚É111Z‚ÌŽQ‰ÁZ‚ðŒˆ’è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‘“àŠO‚ÌŠwZ‚âŽÐ‰ïl‚Æ‚Ì“dŽqƒ[ƒ‹ŒðŠ·Aƒz[ƒ€ƒy[ƒW‚É‚æ‚éî•ñ”­MA‰“Šu’n‚ÌŠwZ‚Æ‹¤’Ê‚Ìƒe[ƒ}‚Ås‚¤‹¤“¯ŠwK“™A]—ˆ‚Ì‹³Žº‚Ì˜g‚ð‰z‚¦‚½‹³ˆçEŠwK‚Ì‰Â”\«‚ª‚ ‚é‚±‚Æ‚ðŽÀØ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V‚P‚O‚OZƒvƒƒWƒFƒNƒ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½¬‚X”N“x‚©‚ç‚ÍuV‚P‚O‚OZƒvƒƒWƒFƒNƒgv‚Æ‚µ‚ÄA‚P‚O‚OZƒvƒƒWƒFƒNƒgŽQ‰ÁZ‚É‚¨‚¯‚éƒCƒ“ƒ^[ƒlƒbƒg—˜—p‚ÌŽÀ‘HŠˆ“®‚Ì’~Ï‚ð‚à‚Æ‚ÉAˆÈ‰º‚Ì‚æ‚¤‚ÈŒ»ê‚É‚¨‚¯‚éƒCƒ“ƒ^[ƒlƒbƒg‚Ì‹³ˆç—˜—p‚ÌŽÀ‘HŒ¤‹†‹y‚Ñ¡Œã‚Ìƒlƒbƒgƒ[ƒN‹ZpAî•ñ‹Zp‚Ìi“W‚Ö‚Ì‘Î‰ž‚ð}‚é‚½‚ß‚ÌŽÀ‘HŒ¤‹†‚ðŽÀŽ{‚µ‚½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ŠCŠO‚Ì‹³ˆç‹@ŠÖ‚â’nˆæ‘gD‚Æ‚Ì˜AŒg“™A‹³ˆçŒ»ê‚É‚¨‚¯‚éƒCƒ“ƒ^[ƒlƒbƒg—˜—p‚Ì•‹yE’è’…‚ÉŒü‚¯‚½Žd‘g‚Ýì‚è‚ÉŠÖ‚·‚éŽÀ‘HŒ¤‹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‹</a:t>
            </a:r>
            <a:r>
              <a:rPr b="0" lang="en-US" sz="1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³ˆçƒJƒŠƒLƒ…ƒ‰ƒ€‚É“K‰ž‚·‚éƒCƒ“ƒ^[ƒlƒbƒg—˜—p‚ÉŠÖ‚·‚éŽÀ‘HŒ¤‹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467160" y="5638680"/>
            <a:ext cx="5372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wZ‚É‚¨‚¯‚éî•ñ‹³ˆç‚ÌŽÀ‘Ô“™‚ÉŠÖ‚·‚é’²¸Œ‹‰Ê,H10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Access in Public Schools and Classrooms,Feb.1999CNational Center for Educational Sta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et Data Retrieval Report,19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2280" y="2286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ŠwZ‚Ìî•ñ‰»‚ÌŒ»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2280" y="9907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ŠwZ‚ÌƒRƒ“ƒsƒ…[ƒ^‚âƒCƒ“ƒ^[ƒlƒbƒg‚Ì®”õ‚Í’…ŽÀ‚Éi‚ñ‚Å‚¢‚é‚ªA•Ä‘‚ÆŠr‚×‚é‚Æ‚»‚Ì·‚Í‘å‚«‚­A”—Ê‚ÌŠg‘å‚Æ‹¤‚ÉƒRƒ“ƒsƒ…[ƒ^‚Ì”z’u‚âƒCƒ“ƒ^[ƒlƒbƒg‚ÌÚ‘±Œ`‘Ô‚Ì‚“x‰»“™‚ÌŽ¿“I‚ÈŠg‘å‚ª‹‚ß‚ç‚ê‚Ä‚¢‚é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050920" y="1974960"/>
            <a:ext cx="3289320" cy="317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–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03960" y="1974960"/>
            <a:ext cx="3289320" cy="317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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050920" y="2355840"/>
            <a:ext cx="3289320" cy="1354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Rƒ“ƒsƒ…[ƒ^i‚P‘ä‚ ‚½‚è‚Ì¶“k”j@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@@@@    ‚Q‚O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}ƒ‹ƒ`ƒƒfƒBƒA‘Î‰žƒRƒ“ƒsƒ…[ƒ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i‚P‘ä‚ ‚½‚è‚Ì¶“k”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@@@@@@@@@@@@@@@@@@@‚R‚U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03960" y="2355840"/>
            <a:ext cx="3289320" cy="1806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Rƒ“ƒsƒ…[ƒ^i‚P‘ä‚ ‚½‚è‚Ì¶“k”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@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@@@@@@@@@@@@@@@@‚U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}ƒ‹ƒ`ƒƒfƒBƒA‘Î‰žƒRƒ“ƒsƒ…[ƒ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i‚P‘ä‚ ‚½‚è‚Ì¶“k”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@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@@@@@@@@@@@@@@@@@‚Q‚P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050920" y="3727440"/>
            <a:ext cx="3289320" cy="1917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‚Ä‚ÌŠwZ‚ªƒCƒ“ƒ^[ƒlƒbƒg‚ÉÚ‘±‚·‚é–Ú•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@@@@@@@@@@@@@@@@@‚Q‚O‚O‚P”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Cƒ“ƒ^[ƒlƒbƒg‚ÉÚ‘±‚µ‚Ä‚¢‚éŠwZ@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@@@‚P‚WD‚V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403960" y="3727440"/>
            <a:ext cx="3289320" cy="2926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‚Ä‚Ì‹³Žº‚ªƒCƒ“ƒ^[ƒlƒbƒg‚ÉÚ‘±‚·‚é–Ú•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@@@@@@@@@@@@@@@@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‚Q‚O‚O‚O”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Cƒ“ƒ^[ƒlƒbƒg‚ÉÚ‘±‚µ‚Ä‚¢‚éŠwZ@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@@@@@@@@@@@@@@@@@‚W‚X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Cƒ“ƒ^[ƒlƒbƒg‚ÉÚ‘±‚µ‚Ä‚¢‚é‹³Žº@@@@@@@@@@‚T‚P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Cƒ“ƒ^[ƒlƒbƒg‚Éê—püÚ‘±‚µ‚Ä‚¢‚éŠwZ@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@@‚U‚T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Cƒ“ƒ^[ƒlƒbƒgÚ‘±‚µ‚½ƒRƒ“ƒsƒ…[ƒ^‚P‘ä‚ ‚½‚è‚Ì¶“k”@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@@@@@@@@@@@@@@@@@@@@@@@@@@‚P‚Q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27040" y="2355840"/>
            <a:ext cx="1460520" cy="1308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Rƒ“ƒsƒ…[ƒ^‚Ì®”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27040" y="3727440"/>
            <a:ext cx="1460520" cy="1917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Cƒ“ƒ^[ƒlƒbƒg®”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2280" y="632448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‚</a:t>
            </a:r>
            <a:r>
              <a:rPr b="0" lang="en-US" sz="18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Ü‚½A‹³ˆç—pƒ\ƒtƒgƒEƒFƒAAŽw“±ŽÒ‚Ì”AŽx‰‡‚·‚éŠÂ‹«“™‚Ì®”õ‚à•K—v‚Å‚ ‚é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52280" y="2286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‹</a:t>
            </a:r>
            <a:r>
              <a:rPr b="0" lang="en-US" sz="2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³ˆç‚Ìî•ñ‰»„iŽ–‹Æ</a:t>
            </a:r>
            <a:r>
              <a:rPr b="0" lang="en-US" sz="16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i•½¬‚P‚O”N“x‚PŽŸ•â³—\ŽZ@î•ñˆ—U‹»Ž–‹Æ‹¦‰ïŽ–‹Æ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2280" y="9907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¡Œã‚Ì‹³ˆçŒ»ê‚Å‚ÌŠÂ‹«•Ï‰»‚ð“¥‚Ü‚¦AV‚½‚È‹³ˆç—pƒ\ƒtƒgƒEƒFƒAAŽw“±ŽÒ‚ðˆç¬EŽx‰‡‚·‚éŠÂ‹«“™‚Ì®”õ‚ð–Ú“I‚Æ‚µ‚ÄA•½¬‚P‚O”N‚VŒŽ‚©‚ç‹³ˆç‚Ìî•ñ‰»„iŽ–‹Æ‚ði‚ß‚Ä‚¢‚éB•½¬‚P‚P”N“x”¼‚Î‚©‚çŠJ”­¬‰Ê‚Ì•‹y‚ªŠú‘Ò‚³‚ê‚é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82800" y="4816440"/>
            <a:ext cx="701640" cy="1263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732040" y="5160960"/>
            <a:ext cx="3286080" cy="61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î•ñŠw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Îß°Ä¾Ý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456000" y="2278080"/>
            <a:ext cx="923760" cy="771480"/>
          </a:xfrm>
          <a:prstGeom prst="rect">
            <a:avLst/>
          </a:prstGeom>
          <a:solidFill>
            <a:srgbClr val="9c9c9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Zƒ“ƒ^[‹@”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909880" y="2049480"/>
            <a:ext cx="619200" cy="31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ÞÒ²ÝŠÇ—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294080" y="2811600"/>
            <a:ext cx="619200" cy="31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³ÞD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94080" y="2049480"/>
            <a:ext cx="619200" cy="31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V•·D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608280" y="2049480"/>
            <a:ext cx="619200" cy="31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ÙÌßÃÞ½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308400" y="3581280"/>
            <a:ext cx="1387440" cy="716040"/>
            <a:chOff x="3308400" y="3581280"/>
            <a:chExt cx="1387440" cy="71604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3308400" y="3581280"/>
              <a:ext cx="1387440" cy="7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3565440" y="3718080"/>
              <a:ext cx="773280" cy="45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²ÝÀ°È¯Ä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 txBox="1"/>
          <p:nvPr/>
        </p:nvSpPr>
        <p:spPr>
          <a:xfrm>
            <a:off x="4294080" y="2430360"/>
            <a:ext cx="619200" cy="31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s”Ì‹³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456000" y="4627440"/>
            <a:ext cx="923760" cy="619200"/>
          </a:xfrm>
          <a:prstGeom prst="rect">
            <a:avLst/>
          </a:prstGeom>
          <a:solidFill>
            <a:srgbClr val="9c9c9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ˆæƒZƒ“ƒ^[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”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94080" y="4780080"/>
            <a:ext cx="619200" cy="31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Zƒ“ƒ^[‚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~ƒ‰[‹@”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909880" y="2811600"/>
            <a:ext cx="619200" cy="31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Þ×ÝÃ¨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909880" y="2430360"/>
            <a:ext cx="619200" cy="33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ÝÀ°Ý¼¯Ì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ElÞD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922480" y="4780080"/>
            <a:ext cx="619200" cy="31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ˆæ”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¾ÝÀ°‹@”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213520" y="6095880"/>
            <a:ext cx="393840" cy="254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631880" y="3463920"/>
            <a:ext cx="547560" cy="258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631880" y="4346640"/>
            <a:ext cx="546120" cy="314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708200" y="3886200"/>
            <a:ext cx="393840" cy="304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103640" y="4398840"/>
            <a:ext cx="619200" cy="31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ÙÌßÃÞ½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631880" y="3641760"/>
            <a:ext cx="565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Šw“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31880" y="4114800"/>
            <a:ext cx="609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‚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‚f‚n“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00200" y="4572000"/>
            <a:ext cx="565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é‹Æ“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66960" y="3295800"/>
            <a:ext cx="576720" cy="76680"/>
          </a:xfrm>
          <a:custGeom>
            <a:avLst/>
            <a:gdLst/>
            <a:ahLst/>
            <a:rect l="0" t="0" r="r" b="b"/>
            <a:pathLst>
              <a:path fill="none" w="1602" h="213">
                <a:moveTo>
                  <a:pt x="0" y="0"/>
                </a:moveTo>
                <a:lnTo>
                  <a:pt x="133" y="35"/>
                </a:lnTo>
                <a:lnTo>
                  <a:pt x="133" y="52"/>
                </a:lnTo>
                <a:lnTo>
                  <a:pt x="266" y="68"/>
                </a:lnTo>
                <a:lnTo>
                  <a:pt x="401" y="81"/>
                </a:lnTo>
                <a:lnTo>
                  <a:pt x="534" y="92"/>
                </a:lnTo>
                <a:lnTo>
                  <a:pt x="667" y="98"/>
                </a:lnTo>
                <a:lnTo>
                  <a:pt x="801" y="100"/>
                </a:lnTo>
                <a:lnTo>
                  <a:pt x="934" y="102"/>
                </a:lnTo>
                <a:lnTo>
                  <a:pt x="1068" y="111"/>
                </a:lnTo>
                <a:lnTo>
                  <a:pt x="1202" y="121"/>
                </a:lnTo>
                <a:lnTo>
                  <a:pt x="1335" y="134"/>
                </a:lnTo>
                <a:lnTo>
                  <a:pt x="1469" y="151"/>
                </a:lnTo>
                <a:lnTo>
                  <a:pt x="1602" y="171"/>
                </a:lnTo>
                <a:lnTo>
                  <a:pt x="1602" y="21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73520" y="4411800"/>
            <a:ext cx="365400" cy="76680"/>
          </a:xfrm>
          <a:custGeom>
            <a:avLst/>
            <a:gdLst/>
            <a:ahLst/>
            <a:rect l="0" t="0" r="r" b="b"/>
            <a:pathLst>
              <a:path fill="none" w="1015" h="213">
                <a:moveTo>
                  <a:pt x="0" y="213"/>
                </a:moveTo>
                <a:lnTo>
                  <a:pt x="84" y="174"/>
                </a:lnTo>
                <a:lnTo>
                  <a:pt x="169" y="139"/>
                </a:lnTo>
                <a:lnTo>
                  <a:pt x="338" y="113"/>
                </a:lnTo>
                <a:lnTo>
                  <a:pt x="422" y="109"/>
                </a:lnTo>
                <a:lnTo>
                  <a:pt x="507" y="104"/>
                </a:lnTo>
                <a:lnTo>
                  <a:pt x="592" y="100"/>
                </a:lnTo>
                <a:lnTo>
                  <a:pt x="677" y="96"/>
                </a:lnTo>
                <a:lnTo>
                  <a:pt x="846" y="74"/>
                </a:lnTo>
                <a:lnTo>
                  <a:pt x="1015" y="38"/>
                </a:lnTo>
                <a:lnTo>
                  <a:pt x="1015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294080" y="3192480"/>
            <a:ext cx="619200" cy="31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–{Œê‹³ˆ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¿°½¾Ý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4718160" y="6095880"/>
            <a:ext cx="393840" cy="254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4222800" y="6108840"/>
            <a:ext cx="393840" cy="254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3727440" y="6080040"/>
            <a:ext cx="393840" cy="254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3232080" y="6080040"/>
            <a:ext cx="393840" cy="254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0"/>
          <a:stretch/>
        </p:blipFill>
        <p:spPr>
          <a:xfrm>
            <a:off x="2736720" y="6080040"/>
            <a:ext cx="393840" cy="254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1"/>
          <a:stretch/>
        </p:blipFill>
        <p:spPr>
          <a:xfrm>
            <a:off x="5708520" y="6080040"/>
            <a:ext cx="393840" cy="254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909880" y="3176640"/>
            <a:ext cx="619200" cy="31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²Ã¨Ý¸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¼½Ã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89080" y="2587680"/>
            <a:ext cx="825480" cy="1444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089080" y="2968560"/>
            <a:ext cx="825480" cy="106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9080" y="4032360"/>
            <a:ext cx="838440" cy="904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2"/>
          <a:stretch/>
        </p:blipFill>
        <p:spPr>
          <a:xfrm>
            <a:off x="6165720" y="5318280"/>
            <a:ext cx="227160" cy="317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608280" y="2811600"/>
            <a:ext cx="6192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³ˆç‹@ŠÖŒü‚¯¾·­ØÃ¨¾Ý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3"/>
          <a:stretch/>
        </p:blipFill>
        <p:spPr>
          <a:xfrm>
            <a:off x="2736720" y="5562720"/>
            <a:ext cx="547560" cy="258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4"/>
          <a:stretch/>
        </p:blipFill>
        <p:spPr>
          <a:xfrm>
            <a:off x="5632560" y="5546880"/>
            <a:ext cx="547560" cy="2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3193920" y="5486400"/>
            <a:ext cx="727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ˆæ¿Ì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¾ÝÀ“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708520" y="5699160"/>
            <a:ext cx="754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³ˆç¾Ý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817640" y="5100480"/>
            <a:ext cx="6192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î•ñˆ—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pŽ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ˆÏúŽ–‹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948200" y="2811600"/>
            <a:ext cx="619200" cy="31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³ˆõŒ¤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VƒXƒeƒ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14480" y="6472080"/>
            <a:ext cx="619200" cy="31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î•ñ‹Z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³ˆ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332240" y="5710320"/>
            <a:ext cx="619200" cy="31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wZŠ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Ìß×¯ÄÌ«°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923160" y="5710320"/>
            <a:ext cx="619200" cy="31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Ž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•¨Š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5"/>
          <a:stretch/>
        </p:blipFill>
        <p:spPr>
          <a:xfrm>
            <a:off x="7156440" y="5334120"/>
            <a:ext cx="747720" cy="352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3646440" y="6472080"/>
            <a:ext cx="619200" cy="31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Z“à‹³ˆ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Ìß×¯ÄÌ«°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61040" y="6091200"/>
            <a:ext cx="619200" cy="31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¬’†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ˆêŠÑ‹³ˆ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484520" y="6472080"/>
            <a:ext cx="619200" cy="31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ö‹Æ—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\ƒtƒ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29080" y="6472080"/>
            <a:ext cx="619200" cy="42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Žê‹³ˆç—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\ƒtƒ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52280" y="2286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Å‹ßs‚í‚ê‚Ä‚¢‚éŽå—vƒvƒƒWƒFƒNƒ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2280" y="990720"/>
            <a:ext cx="8839080" cy="59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ƒo[ƒ`ƒƒƒ‹ƒG[ƒWƒFƒ“ƒV[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½¬‚P‚O”N‚P‚QŒŽ“àŠt‘—‘åb’¼Š‚ÌÈ’¡˜AŒgƒ^ƒXƒNƒtƒH[ƒX‚Æ‚µ‚Äƒo[ƒ`ƒƒƒ‹EƒG[ƒWƒFƒ“ƒV[‚ªÝ’u‚³‚êA‚»‚Ì’†‚Ì‚Å‹³ˆç‚Ìî•ñ‰»‚É‚Â‚¢‚ÄŒŸ“¢‚ªŽn‚Ü‚Á‚Ä‚¢‚é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‹</a:t>
            </a:r>
            <a:r>
              <a:rPr b="0" lang="en-US" sz="1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³ˆç‚Ìî•ñ‰»ƒvƒƒWƒFƒNƒgŽïŽ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43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‚“xî•ñ‰»ŽÐ‰ï‚É‘Î‰ž‚µ‚½lÞ‚ðŽá‚¢‚¤‚¿‚©‚çˆç¬‚·‚é‚½‚ßAŠwZ‚ð’†S‚Æ‚µ‚½‹³ˆç‚Ìî•ñ‰»‚ð„i‚·‚é•K—v‚ª‚ ‚éB‚»‚Ì‚½‚ßA‘S‘‚Ì¬’†ŠwZ“™‚É‚¨‚¯‚éƒRƒ“ƒsƒ…[ƒ^‚Ì®”õ[ŽÀAƒCƒ“ƒ^[ƒlƒbƒg‚ÌŠˆ—pAî•ñ‰»‚É¸’Ê‚µ‚½lÞ‚ÌŠˆ—p“™‚ð„i‚·‚é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Ì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43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¶•”È¶ŠUŠwK‹Ç’·‚ðƒŠ[ƒ_[‚Æ‚µA“àŠt“à­R‹cŽºA•¶•”ÈA’Ê¤ŽY‹ÆÈA—X­ÈAŽ©Ž¡È‚Ì‰Û’·ƒNƒ‰ƒX‚É‚æ‚è\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‚</a:t>
            </a:r>
            <a:r>
              <a:rPr b="0" lang="en-US" sz="16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P”NˆÈ“à‚É‹³ˆç‚Ìî•ñ‰»‚É‚Â‚¢‚Ä‚Ì‹ï‘Ì“I‚ÈƒvƒƒWƒFƒNƒgAŒv‰æA‚»‚ÌŽÀŽ{‘Ì§“™‚ð–¾Šm‚É‘Å‚¿o‚·‚±‚Æ‚Æ‚µ‚Ä‚¢‚é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æi“I‹³ˆç—pƒlƒbƒgƒ[ƒNƒ‚ƒfƒ‹’nˆæŽ–‹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¶•”È‹y‚Ñ—X­È‚Å‚Í‚R‚O’nˆæ‚P‚O‚T‚OZ‚É‚¨‚¢‚Ä‚‘¬‰ñü‹³ˆçƒlƒbƒgƒ[ƒN‚ÌŽÀØŽÀŒ±‚ðs‚¤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‹</a:t>
            </a:r>
            <a:r>
              <a:rPr b="0" lang="en-US" sz="1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³ˆçƒZƒ“ƒ^[“™‚ð’†S‚Æ‚µ‚ÄŠwZ‚ð‚‘¬‰ñü‚ÅÚ‘±‚·‚é’nˆæ‹³ˆç—pƒlƒbƒgƒ[ƒN‚ðƒ‚ƒfƒ‹“I‚ÉŒ`¬‚µA‚±‚Ìƒlƒbƒgƒ[ƒN‚ðŠˆ—p‚µ‚Äæ“±“I‚È‹³ˆç•û–@‚ÉŠÖ‚·‚éŒ¤‹†ŠJ”­‚ðs‚¤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43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³Þƒf[ƒ^ƒx[ƒX“™‚Ì‹¤“¯—˜—p‚Æ‚±‚ê‚ð—p‚¢‚½Žw“±–@‚ÉŒW‚í‚éŒ¤‹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143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¤“¯ŠwKEŒð—¬ŠwK‚Ì‚ ‚è•û‚ÉŒW‚í‚éŒ¤‹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143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Ž™“¶E¶“k‚Æ’nˆæŽÐ‰ï‚Æ‚ÌŒð—¬‚Ì‚ ‚è•û‚ÉŒW‚í‚éŒ¤‹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143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³ˆõŒ¤CA‹³ÞŒ¤‹†“™î•ñŒðŠ·E’ñ‹ŸƒVƒXƒeƒ€‚ÉŠÖ‚·‚éŒ¤‹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‚</a:t>
            </a:r>
            <a:r>
              <a:rPr b="0" lang="en-US" sz="1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Ü‚½AŒõƒtƒ@ƒCƒo[A‚c‚r‚kA–³ü’ÊMA‰q¯’ÊM‚È‚Ç‚Ì‚‘¬ƒAƒNƒZƒX‰ñü‚ð•¡‡“I‚ÉŠˆ—p‚µ‚½V‚½‚Èƒlƒbƒgƒ[ƒNƒVƒXƒeƒ€‚Ì\’z‹Zp‚ÉŠÖ‚·‚éŒ¤‹†ŠJ”­‚ðs‚¤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52280" y="2286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‹</a:t>
            </a:r>
            <a:r>
              <a:rPr b="0" lang="en-US" sz="2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³ˆç‚Ìî•ñ‰»‚Ìi“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280" y="9907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‚</a:t>
            </a:r>
            <a:r>
              <a:rPr b="0" lang="en-US" sz="18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P‚O‚OZƒvƒƒWƒFƒNƒg‚ÌŽn‚Ü‚Á‚½•½¬‚U”N‚©‚çŠwZ‚Ìî•ñ‰»‚Í‹}‘¬‚É—§‚¿ã‚ª‚Á‚Ä‚¨‚èA¡Œã‚Ü‚·‚Ü‚·•‹y‚ªi‚ñ‚Å‚¢‚­‚à‚Ì‚Æl‚¦‚ç‚ê‚Ä‚¢‚é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0720" y="1746360"/>
            <a:ext cx="851040" cy="24120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¬‚U”N“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89160" y="1746360"/>
            <a:ext cx="851040" cy="24120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¬‚V”N“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27240" y="1746360"/>
            <a:ext cx="851040" cy="24120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¬‚W”N“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965320" y="1746360"/>
            <a:ext cx="851040" cy="24120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¬‚X”N“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3760" y="1746360"/>
            <a:ext cx="1003320" cy="24120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¬‚P‚O”N“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794120" y="1746360"/>
            <a:ext cx="1003320" cy="24120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¬‚P‚P”N“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784840" y="1746360"/>
            <a:ext cx="1003320" cy="24120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¬‚P‚Q”N“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775560" y="1746360"/>
            <a:ext cx="1003320" cy="24120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¬‚P‚R”N“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765920" y="1746360"/>
            <a:ext cx="1231920" cy="24120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¬‚P‚S”N“xˆÈ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0720" y="1974960"/>
            <a:ext cx="851040" cy="46609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89160" y="1974960"/>
            <a:ext cx="851040" cy="46609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27240" y="1974960"/>
            <a:ext cx="851040" cy="46609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65320" y="1974960"/>
            <a:ext cx="851040" cy="46609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3760" y="1974960"/>
            <a:ext cx="1003320" cy="46609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94120" y="1974960"/>
            <a:ext cx="1003320" cy="46609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84840" y="1974960"/>
            <a:ext cx="1003320" cy="46609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75560" y="1974960"/>
            <a:ext cx="1003320" cy="46609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65920" y="1974960"/>
            <a:ext cx="1231920" cy="46609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42800" y="4786200"/>
            <a:ext cx="2543040" cy="257040"/>
          </a:xfrm>
          <a:prstGeom prst="rect">
            <a:avLst/>
          </a:prstGeom>
          <a:solidFill>
            <a:srgbClr val="ebebeb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‚O‚OZƒvƒƒWƒFƒNƒ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57400" y="4786200"/>
            <a:ext cx="1857240" cy="257040"/>
          </a:xfrm>
          <a:prstGeom prst="rect">
            <a:avLst/>
          </a:prstGeom>
          <a:solidFill>
            <a:srgbClr val="ebebeb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V‚P‚O‚OZƒvƒƒWƒFƒNƒ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786200" y="4786200"/>
            <a:ext cx="3000240" cy="257040"/>
          </a:xfrm>
          <a:prstGeom prst="rect">
            <a:avLst/>
          </a:prstGeom>
          <a:solidFill>
            <a:srgbClr val="ebebeb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|ƒXƒg‚P‚O‚OZƒvƒƒWƒFƒNƒgi‰¼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56040" y="5175360"/>
            <a:ext cx="1841400" cy="169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³ˆç‚Ìî•ñ‰»„iŽ–‹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413240" y="5937120"/>
            <a:ext cx="3365640" cy="169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æi“I‹³ˆç—pƒlƒbƒgƒ[ƒNƒ‚ƒfƒ‹’nˆæŽ–‹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413240" y="5556240"/>
            <a:ext cx="1003320" cy="3387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o[ƒ`ƒƒƒ‹ƒG[ƒWƒFƒ“ƒV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154320"/>
            <a:ext cx="5334480" cy="152640"/>
          </a:xfrm>
          <a:custGeom>
            <a:avLst/>
            <a:gdLst/>
            <a:ahLst/>
            <a:rect l="0" t="0" r="r" b="b"/>
            <a:pathLst>
              <a:path w="14818" h="424">
                <a:moveTo>
                  <a:pt x="0" y="424"/>
                </a:moveTo>
                <a:lnTo>
                  <a:pt x="14818" y="424"/>
                </a:lnTo>
                <a:lnTo>
                  <a:pt x="14818" y="0"/>
                </a:lnTo>
                <a:lnTo>
                  <a:pt x="0" y="211"/>
                </a:lnTo>
                <a:lnTo>
                  <a:pt x="0" y="424"/>
                </a:lnTo>
                <a:close/>
              </a:path>
            </a:pathLst>
          </a:cu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0720" y="4114800"/>
            <a:ext cx="7328160" cy="165600"/>
          </a:xfrm>
          <a:custGeom>
            <a:avLst/>
            <a:gdLst/>
            <a:ahLst/>
            <a:rect l="0" t="0" r="r" b="b"/>
            <a:pathLst>
              <a:path w="20356" h="460">
                <a:moveTo>
                  <a:pt x="20356" y="460"/>
                </a:moveTo>
                <a:lnTo>
                  <a:pt x="0" y="460"/>
                </a:lnTo>
                <a:lnTo>
                  <a:pt x="20356" y="0"/>
                </a:lnTo>
                <a:lnTo>
                  <a:pt x="20356" y="460"/>
                </a:lnTo>
                <a:close/>
              </a:path>
            </a:pathLst>
          </a:cu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765920" y="4114800"/>
            <a:ext cx="1231920" cy="169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Cƒ“ƒ^[ƒlƒbƒ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666880" y="2087640"/>
            <a:ext cx="1476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³ˆç‰üŠvƒvƒƒOƒ‰ƒ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58000" y="4786200"/>
            <a:ext cx="1247760" cy="257040"/>
          </a:xfrm>
          <a:prstGeom prst="rect">
            <a:avLst/>
          </a:prstGeom>
          <a:solidFill>
            <a:srgbClr val="ebebeb"/>
          </a:solidFill>
          <a:ln w="2556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279520" y="6318360"/>
            <a:ext cx="6718320" cy="169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‚Ë‚Á‚Æƒvƒ‰ƒ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724280" y="3892680"/>
            <a:ext cx="1057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Cƒ“ƒ^[ƒlƒbƒ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84440" y="2736720"/>
            <a:ext cx="1612800" cy="6771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î•ñ‰»‚Ìi“W‚É‘Î‰ž‚µ‚½‰“™’†“™‹³ˆç‚É‚¨‚¯‚éî•ñ‹³ˆç‚Ì„i“™‚ÉŠÖ‚·‚é’²¸Œ¤‹†‹¦—ÍŽÒ‰ï‹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36720" y="2050920"/>
            <a:ext cx="165600" cy="89280"/>
          </a:xfrm>
          <a:custGeom>
            <a:avLst/>
            <a:gdLst/>
            <a:ahLst/>
            <a:rect l="0" t="0" r="r" b="b"/>
            <a:pathLst>
              <a:path w="460" h="248">
                <a:moveTo>
                  <a:pt x="0" y="248"/>
                </a:moveTo>
                <a:lnTo>
                  <a:pt x="460" y="248"/>
                </a:lnTo>
                <a:lnTo>
                  <a:pt x="230" y="0"/>
                </a:lnTo>
                <a:lnTo>
                  <a:pt x="0" y="248"/>
                </a:lnTo>
                <a:close/>
              </a:path>
            </a:pathLst>
          </a:cu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3520" y="2087640"/>
            <a:ext cx="1628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‚“xî•ñ‰»ƒvƒƒOƒ‰ƒ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3360" y="2050920"/>
            <a:ext cx="165600" cy="89280"/>
          </a:xfrm>
          <a:custGeom>
            <a:avLst/>
            <a:gdLst/>
            <a:ahLst/>
            <a:rect l="0" t="0" r="r" b="b"/>
            <a:pathLst>
              <a:path w="460" h="248">
                <a:moveTo>
                  <a:pt x="0" y="248"/>
                </a:moveTo>
                <a:lnTo>
                  <a:pt x="460" y="248"/>
                </a:lnTo>
                <a:lnTo>
                  <a:pt x="230" y="0"/>
                </a:lnTo>
                <a:lnTo>
                  <a:pt x="0" y="248"/>
                </a:lnTo>
                <a:close/>
              </a:path>
            </a:pathLst>
          </a:cu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352680" y="425124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‚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‚R‚U‚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600200" y="3327480"/>
            <a:ext cx="5302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‚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D‚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‚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‚RD‚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‚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‚PD‚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7000" y="3327480"/>
            <a:ext cx="4856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i‚Q‚Q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i‚S‚Q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i‚S‚Q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838080" y="3327480"/>
            <a:ext cx="5302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‚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D‚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‚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‚RD‚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‚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‚VD‚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17840" y="3327480"/>
            <a:ext cx="5302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‚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D‚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‚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‚TD‚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‚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‚UD‚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355920" y="3327480"/>
            <a:ext cx="5302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‚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‚OD‚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‚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‚WD‚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‚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‚PD‚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343400" y="3327480"/>
            <a:ext cx="4381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i|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i|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i|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086600" y="4251240"/>
            <a:ext cx="747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i‚S‚O‚O‚O‚O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110280" y="4251240"/>
            <a:ext cx="747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i‚Q‚X‚T‚O‚O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119560" y="4251240"/>
            <a:ext cx="747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i‚P‚W‚X‚O‚O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216320" y="4251240"/>
            <a:ext cx="6602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i‚W‚R‚O‚O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600200" y="4251240"/>
            <a:ext cx="573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‚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‚O‚O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398680" y="4251240"/>
            <a:ext cx="6602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‚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‚P‚O‚O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79520" y="2050920"/>
            <a:ext cx="165600" cy="89280"/>
          </a:xfrm>
          <a:custGeom>
            <a:avLst/>
            <a:gdLst/>
            <a:ahLst/>
            <a:rect l="0" t="0" r="r" b="b"/>
            <a:pathLst>
              <a:path w="460" h="248">
                <a:moveTo>
                  <a:pt x="0" y="248"/>
                </a:moveTo>
                <a:lnTo>
                  <a:pt x="460" y="248"/>
                </a:lnTo>
                <a:lnTo>
                  <a:pt x="230" y="0"/>
                </a:lnTo>
                <a:lnTo>
                  <a:pt x="0" y="248"/>
                </a:lnTo>
                <a:close/>
              </a:path>
            </a:pathLst>
          </a:cu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6000" y="2286000"/>
            <a:ext cx="287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‚P¢‹I‚ð“W–]‚µ‚½‰ä‚ª‘‚Ì‹³ˆç‚ÌÝ‚è•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3240" y="2050920"/>
            <a:ext cx="165600" cy="89280"/>
          </a:xfrm>
          <a:custGeom>
            <a:avLst/>
            <a:gdLst/>
            <a:ahLst/>
            <a:rect l="0" t="0" r="r" b="b"/>
            <a:pathLst>
              <a:path w="460" h="248">
                <a:moveTo>
                  <a:pt x="0" y="248"/>
                </a:moveTo>
                <a:lnTo>
                  <a:pt x="460" y="248"/>
                </a:lnTo>
                <a:lnTo>
                  <a:pt x="230" y="0"/>
                </a:lnTo>
                <a:lnTo>
                  <a:pt x="0" y="248"/>
                </a:lnTo>
                <a:close/>
              </a:path>
            </a:pathLst>
          </a:cu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65520" y="2050920"/>
            <a:ext cx="165600" cy="89280"/>
          </a:xfrm>
          <a:custGeom>
            <a:avLst/>
            <a:gdLst/>
            <a:ahLst/>
            <a:rect l="0" t="0" r="r" b="b"/>
            <a:pathLst>
              <a:path w="460" h="248">
                <a:moveTo>
                  <a:pt x="0" y="248"/>
                </a:moveTo>
                <a:lnTo>
                  <a:pt x="460" y="248"/>
                </a:lnTo>
                <a:lnTo>
                  <a:pt x="230" y="0"/>
                </a:lnTo>
                <a:lnTo>
                  <a:pt x="0" y="248"/>
                </a:lnTo>
                <a:close/>
              </a:path>
            </a:pathLst>
          </a:cu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784840" y="3147840"/>
            <a:ext cx="3213000" cy="169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Rƒ“ƒsƒ…[ƒ^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030640" y="5030640"/>
            <a:ext cx="150840" cy="150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259240" y="5030640"/>
            <a:ext cx="150840" cy="150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564160" y="5030640"/>
            <a:ext cx="150840" cy="150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792760" y="5030640"/>
            <a:ext cx="150840" cy="150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4267080"/>
            <a:ext cx="12924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Cƒ“ƒ^[ƒlƒbƒgÚ‘±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360" y="3333600"/>
            <a:ext cx="9810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¬ŠwZi‘ä/Z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†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wZi‘ä/Z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‚Zi‘ä/Z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62320" y="2135160"/>
            <a:ext cx="0" cy="22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314960" y="2087640"/>
            <a:ext cx="1403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wKŽw“±—v—ÌŽ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39000" y="2050920"/>
            <a:ext cx="165600" cy="89280"/>
          </a:xfrm>
          <a:custGeom>
            <a:avLst/>
            <a:gdLst/>
            <a:ahLst/>
            <a:rect l="0" t="0" r="r" b="b"/>
            <a:pathLst>
              <a:path w="460" h="248">
                <a:moveTo>
                  <a:pt x="0" y="248"/>
                </a:moveTo>
                <a:lnTo>
                  <a:pt x="460" y="248"/>
                </a:lnTo>
                <a:lnTo>
                  <a:pt x="230" y="0"/>
                </a:lnTo>
                <a:lnTo>
                  <a:pt x="0" y="248"/>
                </a:lnTo>
                <a:close/>
              </a:path>
            </a:pathLst>
          </a:cu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740720" y="2087640"/>
            <a:ext cx="14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wKŽw“±—v—ÌŽÀŽ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04800" y="1351080"/>
            <a:ext cx="2066760" cy="33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ü‚Ì•‹yE‘‹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738520" y="1351080"/>
            <a:ext cx="2066760" cy="33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wZŠÂ‹«‚Ì®”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04800" y="5481720"/>
            <a:ext cx="2066760" cy="33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pƒTƒ|[ƒ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04800" y="3130560"/>
            <a:ext cx="2066760" cy="33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î•ñ’ñ‹ŸE—¬’Ê‚Ì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738520" y="3130560"/>
            <a:ext cx="2066760" cy="33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¤–ù‚Ì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871880" y="3130560"/>
            <a:ext cx="2066760" cy="33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Œð—¬‚Ì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871880" y="1351080"/>
            <a:ext cx="2066760" cy="33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³ˆõŒ¤CŽx‰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876920" y="3521160"/>
            <a:ext cx="19018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‚O‚OZ‚n‚aƒlƒbƒgƒ[ƒ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“I•Êƒ[ƒŠƒ“ƒOƒŠƒXƒ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819520" y="3532320"/>
            <a:ext cx="1073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‹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¤“¯Œ¤‹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¢‘ãŠÔŒð—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520" y="3505320"/>
            <a:ext cx="235116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î•ñ’ñ‹ŸiŒö“Iî•ñ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ö‹ÆŽx‰‡‚c‚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‹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³Þ—¬’Êiƒ\ƒtƒg¤ƒRƒ“ƒeƒ“ƒc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°ÃÞ¨È°Ài‹³‰È‚Å‚ÌŠˆ—p“™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¶Þ²ÄÞ×²Ý¥Žèˆø‚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@@@@iZ“àE’nˆæ‰^—p“™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1752480"/>
            <a:ext cx="125100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ü‚Ì‚‘¬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ü”ï‚Ì•‰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ê—pü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819520" y="1752480"/>
            <a:ext cx="16192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Rƒ“ƒsƒ…[ƒ^‚Ì®”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ŒÃƒpƒ\ƒRƒ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‚`‚m‚Ì®”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876920" y="1752480"/>
            <a:ext cx="163044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JƒŠƒLƒ…ƒ‰ƒ€‚Ì’ñ‹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wKŽx‰‡ƒ\ƒtƒ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‹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³ˆõŒ¤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33520" y="5915160"/>
            <a:ext cx="2370240" cy="9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wƒ‹ƒvƒfƒXƒ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R[ƒfƒBƒl[ƒ^i‹Zp“I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ZƒLƒ…ƒŠƒeƒBAƒtƒBƒ‹ƒ^ƒŠƒ“ƒ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KƒCƒhƒ‰ƒCƒ“EŽèˆø‚«i‹Zp“I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743200" y="5481720"/>
            <a:ext cx="2066760" cy="33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é‹Æˆç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743200" y="5883120"/>
            <a:ext cx="13320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»•iŠJ”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‚d”hŒ­‚Ì[Ž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05600" y="1351080"/>
            <a:ext cx="2066760" cy="33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üˆÍ‚Ì—‰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010280" y="1752480"/>
            <a:ext cx="213372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à–¾Ž‘—¿‚Ì’ñ‹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@i‘ÎŠÇ—EAŽ©Ž¡‘Ì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@@@@@@@@‹³ˆçˆÏˆõ‰ï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Œ[”­Šˆ“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52280" y="2286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‹</a:t>
            </a:r>
            <a:r>
              <a:rPr b="0" lang="en-US" sz="2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³ˆõE‹³ˆçˆÏˆõ‰ï‚©‚ç‚Ì—v–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28600" y="990720"/>
            <a:ext cx="2514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wZŠÂ‹«“™‚Ì‰ü‘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95200" y="2743200"/>
            <a:ext cx="3133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³ˆçŠÖŒWŽÒ‚Ì‚½‚ß‚Ìê‚Ì’ñ‹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66680" y="5078520"/>
            <a:ext cx="2635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î•ñƒT[ƒrƒXŽY‹Æ‚ÌvŒ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98440" y="2050920"/>
            <a:ext cx="4737240" cy="3060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90360" indent="-9036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‚O‚OZƒvƒƒWƒFƒNƒg‚Å“¾‚½ƒmƒEƒnƒE‚â¬‰Ê‚ð—LŒø‚ÉŠˆ—p‚µ‚ÄA‚±‚ê‚©‚çƒCƒ“ƒ^[ƒlƒbƒg‚ÉÚ‘±‚·‚éŠwZ‚âƒlƒbƒgƒ[ƒNŠÂ‹«‚ÌŠg[‚ð}‚éŠwZ“™‚ª‰~ŠŠ‚ÉŠÂ‹«®”õ‚Å‚«‚é‚æ‚¤‚ÉŽx‰‡‚·‚é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lƒbƒgƒ[ƒN‚ð’Ê‚¶‚ÄŽ©—R‚ÉŽQ‰Á‚µ‘ŠŒÝ‚ÉvŒ£‚µA‹¦—Í‚µ‚ ‚¦‚éuêv‚ð’ñ‹Ÿ‚·‚é‚±‚Æ‚É‚æ‚èA‰SŽÒ‚©‚çn—ûŽÒ‚Ü‚Å‘S‚Ä‚ÌŽQ‰ÁŽÒ‚ª‹¤‚ÉŠw‚ÑAŽhŒƒ‚µ‚ ‚¢A‚‚ß‚ ‚¦‚é‚æ‚¤‚É‚·‚é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î•ñ‹Zp‚È‚Ç‚ðŠˆ—p‚µ‚½æi“I‚È‹³ˆçŽè–@‚ÌŽÀØ“™‚ðs‚¤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52280" y="2286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ƒ|ƒXƒg‚P‚O‚OZƒvƒƒWƒFƒNƒg‚Ì‘_‚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52280" y="9907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{ƒvƒƒWƒFƒNƒg‚ÍAƒlƒbƒgƒ[ƒNã‚É‹³ˆçŠÖŒWŽÒ‚ª’N‚Å‚à“ü‚ê‚éî•ñ’ñ‹ŸAƒRƒ~ƒ…ƒjƒP[ƒVƒ‡ƒ“A‹¤“¯Œ¤‹†‚ª‚Å‚«‚éê‚ð’ñ‹Ÿ‚µAî•ñ‰»‚Ì‘£i‚Æ‚“x‰»‚ð}‚é‚à‚Ì‚Å‚ ‚é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19760" y="4338720"/>
            <a:ext cx="1533600" cy="1152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62920" y="2362320"/>
            <a:ext cx="1086120" cy="2034000"/>
          </a:xfrm>
          <a:custGeom>
            <a:avLst/>
            <a:gdLst/>
            <a:ahLst/>
            <a:rect l="0" t="0" r="r" b="b"/>
            <a:pathLst>
              <a:path w="3017" h="5650">
                <a:moveTo>
                  <a:pt x="0" y="5057"/>
                </a:moveTo>
                <a:lnTo>
                  <a:pt x="37" y="5200"/>
                </a:lnTo>
                <a:lnTo>
                  <a:pt x="116" y="5324"/>
                </a:lnTo>
                <a:lnTo>
                  <a:pt x="232" y="5425"/>
                </a:lnTo>
                <a:lnTo>
                  <a:pt x="385" y="5526"/>
                </a:lnTo>
                <a:lnTo>
                  <a:pt x="771" y="5627"/>
                </a:lnTo>
                <a:lnTo>
                  <a:pt x="1236" y="5650"/>
                </a:lnTo>
                <a:lnTo>
                  <a:pt x="1701" y="5609"/>
                </a:lnTo>
                <a:lnTo>
                  <a:pt x="2124" y="5485"/>
                </a:lnTo>
                <a:lnTo>
                  <a:pt x="2515" y="5282"/>
                </a:lnTo>
                <a:lnTo>
                  <a:pt x="2631" y="5140"/>
                </a:lnTo>
                <a:lnTo>
                  <a:pt x="2747" y="4997"/>
                </a:lnTo>
                <a:lnTo>
                  <a:pt x="2822" y="4813"/>
                </a:lnTo>
                <a:lnTo>
                  <a:pt x="2859" y="4546"/>
                </a:lnTo>
                <a:lnTo>
                  <a:pt x="2938" y="4223"/>
                </a:lnTo>
                <a:lnTo>
                  <a:pt x="2975" y="3855"/>
                </a:lnTo>
                <a:lnTo>
                  <a:pt x="2975" y="3469"/>
                </a:lnTo>
                <a:lnTo>
                  <a:pt x="3017" y="3041"/>
                </a:lnTo>
                <a:lnTo>
                  <a:pt x="2975" y="2181"/>
                </a:lnTo>
                <a:lnTo>
                  <a:pt x="2975" y="1753"/>
                </a:lnTo>
                <a:lnTo>
                  <a:pt x="2938" y="1366"/>
                </a:lnTo>
                <a:lnTo>
                  <a:pt x="2901" y="998"/>
                </a:lnTo>
                <a:lnTo>
                  <a:pt x="2859" y="671"/>
                </a:lnTo>
                <a:lnTo>
                  <a:pt x="2784" y="386"/>
                </a:lnTo>
                <a:lnTo>
                  <a:pt x="2747" y="184"/>
                </a:lnTo>
                <a:lnTo>
                  <a:pt x="2705" y="101"/>
                </a:lnTo>
                <a:lnTo>
                  <a:pt x="2668" y="41"/>
                </a:lnTo>
                <a:lnTo>
                  <a:pt x="2631" y="22"/>
                </a:lnTo>
                <a:lnTo>
                  <a:pt x="2589" y="0"/>
                </a:lnTo>
                <a:lnTo>
                  <a:pt x="2552" y="22"/>
                </a:lnTo>
                <a:lnTo>
                  <a:pt x="2473" y="59"/>
                </a:lnTo>
                <a:lnTo>
                  <a:pt x="2436" y="101"/>
                </a:lnTo>
                <a:lnTo>
                  <a:pt x="2357" y="184"/>
                </a:lnTo>
                <a:lnTo>
                  <a:pt x="2166" y="409"/>
                </a:lnTo>
                <a:lnTo>
                  <a:pt x="2013" y="671"/>
                </a:lnTo>
                <a:lnTo>
                  <a:pt x="1781" y="1021"/>
                </a:lnTo>
                <a:lnTo>
                  <a:pt x="1585" y="1389"/>
                </a:lnTo>
                <a:lnTo>
                  <a:pt x="1352" y="1795"/>
                </a:lnTo>
                <a:lnTo>
                  <a:pt x="1120" y="2222"/>
                </a:lnTo>
                <a:lnTo>
                  <a:pt x="697" y="3101"/>
                </a:lnTo>
                <a:lnTo>
                  <a:pt x="501" y="3529"/>
                </a:lnTo>
                <a:lnTo>
                  <a:pt x="348" y="3915"/>
                </a:lnTo>
                <a:lnTo>
                  <a:pt x="195" y="4284"/>
                </a:lnTo>
                <a:lnTo>
                  <a:pt x="79" y="4611"/>
                </a:lnTo>
                <a:lnTo>
                  <a:pt x="37" y="4873"/>
                </a:lnTo>
                <a:lnTo>
                  <a:pt x="0" y="5057"/>
                </a:lnTo>
                <a:close/>
              </a:path>
            </a:pathLst>
          </a:custGeom>
          <a:solidFill>
            <a:srgbClr val="9c9c9c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52960" y="2055960"/>
            <a:ext cx="1685520" cy="2265120"/>
          </a:xfrm>
          <a:custGeom>
            <a:avLst/>
            <a:gdLst/>
            <a:ahLst/>
            <a:rect l="0" t="0" r="r" b="b"/>
            <a:pathLst>
              <a:path w="4682" h="6292">
                <a:moveTo>
                  <a:pt x="960" y="2284"/>
                </a:moveTo>
                <a:lnTo>
                  <a:pt x="960" y="2284"/>
                </a:lnTo>
                <a:cubicBezTo>
                  <a:pt x="628" y="2815"/>
                  <a:pt x="366" y="3377"/>
                  <a:pt x="200" y="3912"/>
                </a:cubicBezTo>
                <a:cubicBezTo>
                  <a:pt x="34" y="4448"/>
                  <a:pt x="-31" y="4939"/>
                  <a:pt x="13" y="5336"/>
                </a:cubicBezTo>
                <a:cubicBezTo>
                  <a:pt x="57" y="5732"/>
                  <a:pt x="207" y="6021"/>
                  <a:pt x="450" y="6172"/>
                </a:cubicBezTo>
                <a:cubicBezTo>
                  <a:pt x="692" y="6324"/>
                  <a:pt x="1017" y="6332"/>
                  <a:pt x="1393" y="6198"/>
                </a:cubicBezTo>
                <a:cubicBezTo>
                  <a:pt x="1769" y="6064"/>
                  <a:pt x="2182" y="5790"/>
                  <a:pt x="2590" y="5406"/>
                </a:cubicBezTo>
                <a:cubicBezTo>
                  <a:pt x="2999" y="5022"/>
                  <a:pt x="3389" y="4540"/>
                  <a:pt x="3721" y="4009"/>
                </a:cubicBezTo>
                <a:lnTo>
                  <a:pt x="3721" y="4009"/>
                </a:lnTo>
                <a:lnTo>
                  <a:pt x="3721" y="4009"/>
                </a:lnTo>
                <a:cubicBezTo>
                  <a:pt x="4053" y="3478"/>
                  <a:pt x="4315" y="2916"/>
                  <a:pt x="4481" y="2381"/>
                </a:cubicBezTo>
                <a:cubicBezTo>
                  <a:pt x="4647" y="1845"/>
                  <a:pt x="4712" y="1354"/>
                  <a:pt x="4668" y="957"/>
                </a:cubicBezTo>
                <a:cubicBezTo>
                  <a:pt x="4624" y="561"/>
                  <a:pt x="4474" y="272"/>
                  <a:pt x="4231" y="121"/>
                </a:cubicBezTo>
                <a:cubicBezTo>
                  <a:pt x="3989" y="-31"/>
                  <a:pt x="3664" y="-39"/>
                  <a:pt x="3288" y="95"/>
                </a:cubicBezTo>
                <a:cubicBezTo>
                  <a:pt x="2912" y="229"/>
                  <a:pt x="2499" y="503"/>
                  <a:pt x="2091" y="887"/>
                </a:cubicBezTo>
                <a:cubicBezTo>
                  <a:pt x="1682" y="1271"/>
                  <a:pt x="1292" y="1753"/>
                  <a:pt x="960" y="2284"/>
                </a:cubicBezTo>
                <a:close/>
              </a:path>
            </a:pathLst>
          </a:custGeom>
          <a:solidFill>
            <a:srgbClr val="9c9c9c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57680" y="2052720"/>
            <a:ext cx="1305360" cy="2295720"/>
          </a:xfrm>
          <a:custGeom>
            <a:avLst/>
            <a:gdLst/>
            <a:ahLst/>
            <a:rect l="0" t="0" r="r" b="b"/>
            <a:pathLst>
              <a:path fill="none" w="3626" h="6377">
                <a:moveTo>
                  <a:pt x="0" y="0"/>
                </a:moveTo>
                <a:lnTo>
                  <a:pt x="3626" y="0"/>
                </a:lnTo>
                <a:lnTo>
                  <a:pt x="0" y="6377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24800" y="2057400"/>
            <a:ext cx="1524240" cy="2286360"/>
          </a:xfrm>
          <a:custGeom>
            <a:avLst/>
            <a:gdLst/>
            <a:ahLst/>
            <a:rect l="0" t="0" r="r" b="b"/>
            <a:pathLst>
              <a:path fill="none" w="4234" h="6351">
                <a:moveTo>
                  <a:pt x="0" y="6351"/>
                </a:moveTo>
                <a:lnTo>
                  <a:pt x="3608" y="4"/>
                </a:lnTo>
                <a:lnTo>
                  <a:pt x="4234" y="0"/>
                </a:lnTo>
                <a:lnTo>
                  <a:pt x="4234" y="635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153280" y="2058840"/>
            <a:ext cx="0" cy="228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3320" y="2357280"/>
            <a:ext cx="695520" cy="238320"/>
          </a:xfrm>
          <a:custGeom>
            <a:avLst/>
            <a:gdLst/>
            <a:ahLst/>
            <a:rect l="0" t="0" r="r" b="b"/>
            <a:pathLst>
              <a:path w="1932" h="662">
                <a:moveTo>
                  <a:pt x="0" y="220"/>
                </a:moveTo>
                <a:lnTo>
                  <a:pt x="0" y="441"/>
                </a:lnTo>
                <a:lnTo>
                  <a:pt x="1353" y="441"/>
                </a:lnTo>
                <a:lnTo>
                  <a:pt x="1353" y="662"/>
                </a:lnTo>
                <a:lnTo>
                  <a:pt x="1932" y="330"/>
                </a:lnTo>
                <a:lnTo>
                  <a:pt x="1353" y="0"/>
                </a:lnTo>
                <a:lnTo>
                  <a:pt x="1353" y="220"/>
                </a:lnTo>
                <a:lnTo>
                  <a:pt x="0" y="22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96120" y="3119400"/>
            <a:ext cx="695520" cy="238320"/>
          </a:xfrm>
          <a:custGeom>
            <a:avLst/>
            <a:gdLst/>
            <a:ahLst/>
            <a:rect l="0" t="0" r="r" b="b"/>
            <a:pathLst>
              <a:path w="1932" h="662">
                <a:moveTo>
                  <a:pt x="0" y="220"/>
                </a:moveTo>
                <a:lnTo>
                  <a:pt x="0" y="441"/>
                </a:lnTo>
                <a:lnTo>
                  <a:pt x="1353" y="441"/>
                </a:lnTo>
                <a:lnTo>
                  <a:pt x="1353" y="662"/>
                </a:lnTo>
                <a:lnTo>
                  <a:pt x="1932" y="330"/>
                </a:lnTo>
                <a:lnTo>
                  <a:pt x="1353" y="0"/>
                </a:lnTo>
                <a:lnTo>
                  <a:pt x="1353" y="220"/>
                </a:lnTo>
                <a:lnTo>
                  <a:pt x="0" y="22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938920" y="3881520"/>
            <a:ext cx="695520" cy="238320"/>
          </a:xfrm>
          <a:custGeom>
            <a:avLst/>
            <a:gdLst/>
            <a:ahLst/>
            <a:rect l="0" t="0" r="r" b="b"/>
            <a:pathLst>
              <a:path w="1932" h="662">
                <a:moveTo>
                  <a:pt x="0" y="220"/>
                </a:moveTo>
                <a:lnTo>
                  <a:pt x="0" y="441"/>
                </a:lnTo>
                <a:lnTo>
                  <a:pt x="1353" y="441"/>
                </a:lnTo>
                <a:lnTo>
                  <a:pt x="1353" y="662"/>
                </a:lnTo>
                <a:lnTo>
                  <a:pt x="1932" y="330"/>
                </a:lnTo>
                <a:lnTo>
                  <a:pt x="1353" y="0"/>
                </a:lnTo>
                <a:lnTo>
                  <a:pt x="1353" y="220"/>
                </a:lnTo>
                <a:lnTo>
                  <a:pt x="0" y="22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8021520" y="1981080"/>
            <a:ext cx="20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726240" y="4419720"/>
            <a:ext cx="1522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848720" y="4343400"/>
            <a:ext cx="305280" cy="1143360"/>
          </a:xfrm>
          <a:custGeom>
            <a:avLst/>
            <a:gdLst/>
            <a:ahLst/>
            <a:rect l="0" t="0" r="r" b="b"/>
            <a:pathLst>
              <a:path fill="none" w="848" h="3176">
                <a:moveTo>
                  <a:pt x="848" y="0"/>
                </a:moveTo>
                <a:lnTo>
                  <a:pt x="848" y="560"/>
                </a:lnTo>
                <a:lnTo>
                  <a:pt x="812" y="1073"/>
                </a:lnTo>
                <a:lnTo>
                  <a:pt x="776" y="1585"/>
                </a:lnTo>
                <a:lnTo>
                  <a:pt x="665" y="2005"/>
                </a:lnTo>
                <a:lnTo>
                  <a:pt x="552" y="2367"/>
                </a:lnTo>
                <a:lnTo>
                  <a:pt x="368" y="2663"/>
                </a:lnTo>
                <a:lnTo>
                  <a:pt x="183" y="2933"/>
                </a:lnTo>
                <a:lnTo>
                  <a:pt x="0" y="3176"/>
                </a:lnTo>
              </a:path>
            </a:pathLst>
          </a:cu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124760" y="3819600"/>
            <a:ext cx="1057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Cƒ“ƒ^[ƒlƒbƒ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Ú‘±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600520" y="2143080"/>
            <a:ext cx="1057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Cƒ“ƒ^[ƒlƒbƒ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¢Ú‘±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8228160" y="1828800"/>
            <a:ext cx="992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300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iH11.3Œv‰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28160" y="4297320"/>
            <a:ext cx="992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,000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iH14.3Œv‰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176800" y="2052720"/>
            <a:ext cx="237960" cy="771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176800" y="2814480"/>
            <a:ext cx="237960" cy="771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176800" y="3576600"/>
            <a:ext cx="237960" cy="771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176800" y="4338720"/>
            <a:ext cx="237960" cy="1152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ˆ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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64160" y="1990800"/>
            <a:ext cx="1293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819840" y="1844640"/>
            <a:ext cx="755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,700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580080" y="2552760"/>
            <a:ext cx="1060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ŠÔ10,000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93160" y="5070600"/>
            <a:ext cx="336600" cy="73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381880" y="501156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‚‘¬‰ñ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Ú‘±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053560" y="5938920"/>
            <a:ext cx="181080" cy="171360"/>
          </a:xfrm>
          <a:prstGeom prst="ellipse">
            <a:avLst/>
          </a:prstGeom>
          <a:solidFill>
            <a:srgbClr val="9c9c9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223120" y="5791320"/>
            <a:ext cx="920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vƒƒWƒFƒNƒ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Û•”•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292640" y="4208400"/>
            <a:ext cx="2333520" cy="2052720"/>
            <a:chOff x="4292640" y="4208400"/>
            <a:chExt cx="2333520" cy="2052720"/>
          </a:xfrm>
        </p:grpSpPr>
        <p:pic>
          <p:nvPicPr>
            <p:cNvPr id="233" name="" descr=""/>
            <p:cNvPicPr/>
            <p:nvPr/>
          </p:nvPicPr>
          <p:blipFill>
            <a:blip r:embed="rId1"/>
            <a:stretch/>
          </p:blipFill>
          <p:spPr>
            <a:xfrm>
              <a:off x="4292640" y="4208400"/>
              <a:ext cx="233352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 txBox="1"/>
            <p:nvPr/>
          </p:nvSpPr>
          <p:spPr>
            <a:xfrm>
              <a:off x="4441680" y="5838840"/>
              <a:ext cx="1479600" cy="420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”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ŠÔ‚P‚O,‚O‚O‚OZ‚ÌƒCƒ“ƒ^[ƒlƒbƒgÚ‘±ŠwZ‚ðŽx‰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283360" y="4130640"/>
            <a:ext cx="2782800" cy="2727360"/>
            <a:chOff x="5283360" y="4130640"/>
            <a:chExt cx="2782800" cy="2727360"/>
          </a:xfrm>
        </p:grpSpPr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5283360" y="4130640"/>
              <a:ext cx="278280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 txBox="1"/>
            <p:nvPr/>
          </p:nvSpPr>
          <p:spPr>
            <a:xfrm>
              <a:off x="5432400" y="6453360"/>
              <a:ext cx="1895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ƒCƒ“ƒ^[ƒlƒbƒgÚ‘±Z‚ªŽQ‰Á‚·‚é‹¤‚ÉŠw‚ÑA‚‚ß‚ ‚¦‚éê‚ð’ñ‹Ÿ‚·‚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24120" y="4213080"/>
            <a:ext cx="4097160" cy="1595520"/>
          </a:xfrm>
          <a:prstGeom prst="ellipse">
            <a:avLst/>
          </a:prstGeom>
          <a:blipFill rotWithShape="0">
            <a:blip r:embed="rId1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500200" y="3200400"/>
            <a:ext cx="2798640" cy="9255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1585800" y="3870360"/>
            <a:ext cx="744480" cy="4381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5732640" y="3870360"/>
            <a:ext cx="866880" cy="406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2752560" y="5398920"/>
            <a:ext cx="231840" cy="495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5672160" y="4705200"/>
            <a:ext cx="744480" cy="576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7"/>
          <a:stretch/>
        </p:blipFill>
        <p:spPr>
          <a:xfrm>
            <a:off x="3719520" y="4645080"/>
            <a:ext cx="333360" cy="4874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5305320" y="4157640"/>
            <a:ext cx="358920" cy="4269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2805120" y="4035600"/>
            <a:ext cx="436680" cy="460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0"/>
          <a:stretch/>
        </p:blipFill>
        <p:spPr>
          <a:xfrm>
            <a:off x="4757760" y="5522760"/>
            <a:ext cx="682560" cy="4302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1"/>
          <a:stretch/>
        </p:blipFill>
        <p:spPr>
          <a:xfrm>
            <a:off x="1890720" y="5194440"/>
            <a:ext cx="520560" cy="4348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2"/>
          <a:stretch/>
        </p:blipFill>
        <p:spPr>
          <a:xfrm>
            <a:off x="4476600" y="4048200"/>
            <a:ext cx="439560" cy="3841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3"/>
          <a:stretch/>
        </p:blipFill>
        <p:spPr>
          <a:xfrm>
            <a:off x="3719520" y="5621400"/>
            <a:ext cx="541440" cy="403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4"/>
          <a:stretch/>
        </p:blipFill>
        <p:spPr>
          <a:xfrm>
            <a:off x="3781440" y="5681520"/>
            <a:ext cx="190440" cy="2444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5"/>
          <a:stretch/>
        </p:blipFill>
        <p:spPr>
          <a:xfrm>
            <a:off x="1219320" y="6186600"/>
            <a:ext cx="744480" cy="4557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6"/>
          <a:stretch/>
        </p:blipFill>
        <p:spPr>
          <a:xfrm>
            <a:off x="6891480" y="4157640"/>
            <a:ext cx="501480" cy="395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7"/>
          <a:stretch/>
        </p:blipFill>
        <p:spPr>
          <a:xfrm>
            <a:off x="6037200" y="5113440"/>
            <a:ext cx="439560" cy="3682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1768320" y="5603760"/>
            <a:ext cx="882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wƒ‹ƒvƒfƒXƒ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191120" y="4419720"/>
            <a:ext cx="988920" cy="2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\ƒtƒgƒ‰ƒCƒuƒ‰ƒ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732640" y="5442120"/>
            <a:ext cx="692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¤“¯Šw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062680" y="4541760"/>
            <a:ext cx="966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jƒ…[ƒXƒŒƒ^[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00440" y="5913360"/>
            <a:ext cx="1014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[ƒŠƒ“ƒOƒŠƒXƒ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719520" y="6010200"/>
            <a:ext cx="565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ŒfŽ¦”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438280" y="5869080"/>
            <a:ext cx="10699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ZƒLƒ…ƒŠƒeƒB‘Î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682720" y="4419720"/>
            <a:ext cx="819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©K—p‹³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31320" y="5916600"/>
            <a:ext cx="339120" cy="285480"/>
          </a:xfrm>
          <a:custGeom>
            <a:avLst/>
            <a:gdLst/>
            <a:ahLst/>
            <a:rect l="0" t="0" r="r" b="b"/>
            <a:pathLst>
              <a:path w="942" h="793">
                <a:moveTo>
                  <a:pt x="0" y="596"/>
                </a:moveTo>
                <a:lnTo>
                  <a:pt x="127" y="793"/>
                </a:lnTo>
                <a:lnTo>
                  <a:pt x="743" y="394"/>
                </a:lnTo>
                <a:lnTo>
                  <a:pt x="871" y="592"/>
                </a:lnTo>
                <a:lnTo>
                  <a:pt x="942" y="125"/>
                </a:lnTo>
                <a:lnTo>
                  <a:pt x="486" y="0"/>
                </a:lnTo>
                <a:lnTo>
                  <a:pt x="614" y="197"/>
                </a:lnTo>
                <a:lnTo>
                  <a:pt x="0" y="596"/>
                </a:lnTo>
                <a:close/>
              </a:path>
            </a:pathLst>
          </a:cu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467040" y="4437000"/>
            <a:ext cx="338760" cy="284760"/>
          </a:xfrm>
          <a:custGeom>
            <a:avLst/>
            <a:gdLst/>
            <a:ahLst/>
            <a:rect l="0" t="0" r="r" b="b"/>
            <a:pathLst>
              <a:path w="941" h="791">
                <a:moveTo>
                  <a:pt x="0" y="595"/>
                </a:moveTo>
                <a:lnTo>
                  <a:pt x="127" y="791"/>
                </a:lnTo>
                <a:lnTo>
                  <a:pt x="741" y="391"/>
                </a:lnTo>
                <a:lnTo>
                  <a:pt x="869" y="589"/>
                </a:lnTo>
                <a:lnTo>
                  <a:pt x="941" y="123"/>
                </a:lnTo>
                <a:lnTo>
                  <a:pt x="487" y="0"/>
                </a:lnTo>
                <a:lnTo>
                  <a:pt x="614" y="195"/>
                </a:lnTo>
                <a:lnTo>
                  <a:pt x="0" y="595"/>
                </a:lnTo>
                <a:close/>
              </a:path>
            </a:pathLst>
          </a:cu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8"/>
          <a:stretch/>
        </p:blipFill>
        <p:spPr>
          <a:xfrm>
            <a:off x="3876840" y="4157640"/>
            <a:ext cx="222120" cy="3128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9"/>
          <a:stretch/>
        </p:blipFill>
        <p:spPr>
          <a:xfrm>
            <a:off x="1951200" y="4400640"/>
            <a:ext cx="379440" cy="2462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1768320" y="4602240"/>
            <a:ext cx="790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¶Þ²ÄÞ×²Ý“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0"/>
          <a:stretch/>
        </p:blipFill>
        <p:spPr>
          <a:xfrm>
            <a:off x="3632040" y="4157640"/>
            <a:ext cx="279360" cy="190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3571920" y="4419720"/>
            <a:ext cx="565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Þ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59600" y="5332320"/>
            <a:ext cx="1099080" cy="914760"/>
          </a:xfrm>
          <a:custGeom>
            <a:avLst/>
            <a:gdLst/>
            <a:ahLst/>
            <a:rect l="0" t="0" r="r" b="b"/>
            <a:pathLst>
              <a:path w="3053" h="2541">
                <a:moveTo>
                  <a:pt x="2116" y="1773"/>
                </a:moveTo>
                <a:lnTo>
                  <a:pt x="1921" y="1320"/>
                </a:lnTo>
                <a:lnTo>
                  <a:pt x="1647" y="905"/>
                </a:lnTo>
                <a:lnTo>
                  <a:pt x="1295" y="682"/>
                </a:lnTo>
                <a:lnTo>
                  <a:pt x="1095" y="636"/>
                </a:lnTo>
                <a:lnTo>
                  <a:pt x="863" y="590"/>
                </a:lnTo>
                <a:lnTo>
                  <a:pt x="547" y="636"/>
                </a:lnTo>
                <a:lnTo>
                  <a:pt x="236" y="775"/>
                </a:lnTo>
                <a:lnTo>
                  <a:pt x="0" y="276"/>
                </a:lnTo>
                <a:lnTo>
                  <a:pt x="431" y="92"/>
                </a:lnTo>
                <a:lnTo>
                  <a:pt x="863" y="0"/>
                </a:lnTo>
                <a:lnTo>
                  <a:pt x="1174" y="46"/>
                </a:lnTo>
                <a:lnTo>
                  <a:pt x="1447" y="138"/>
                </a:lnTo>
                <a:lnTo>
                  <a:pt x="1721" y="276"/>
                </a:lnTo>
                <a:lnTo>
                  <a:pt x="1958" y="452"/>
                </a:lnTo>
                <a:lnTo>
                  <a:pt x="2348" y="997"/>
                </a:lnTo>
                <a:lnTo>
                  <a:pt x="2506" y="1274"/>
                </a:lnTo>
                <a:lnTo>
                  <a:pt x="2622" y="1635"/>
                </a:lnTo>
                <a:lnTo>
                  <a:pt x="3053" y="1451"/>
                </a:lnTo>
                <a:lnTo>
                  <a:pt x="2543" y="2541"/>
                </a:lnTo>
                <a:lnTo>
                  <a:pt x="1684" y="1904"/>
                </a:lnTo>
                <a:lnTo>
                  <a:pt x="2116" y="1773"/>
                </a:lnTo>
                <a:close/>
              </a:path>
            </a:pathLst>
          </a:cu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94200" y="5743440"/>
            <a:ext cx="1097280" cy="914760"/>
          </a:xfrm>
          <a:custGeom>
            <a:avLst/>
            <a:gdLst/>
            <a:ahLst/>
            <a:rect l="0" t="0" r="r" b="b"/>
            <a:pathLst>
              <a:path w="3048" h="2541">
                <a:moveTo>
                  <a:pt x="910" y="725"/>
                </a:moveTo>
                <a:lnTo>
                  <a:pt x="1120" y="1242"/>
                </a:lnTo>
                <a:lnTo>
                  <a:pt x="1399" y="1606"/>
                </a:lnTo>
                <a:lnTo>
                  <a:pt x="1753" y="1815"/>
                </a:lnTo>
                <a:lnTo>
                  <a:pt x="2174" y="1915"/>
                </a:lnTo>
                <a:lnTo>
                  <a:pt x="2521" y="1869"/>
                </a:lnTo>
                <a:lnTo>
                  <a:pt x="2800" y="1714"/>
                </a:lnTo>
                <a:lnTo>
                  <a:pt x="3048" y="2278"/>
                </a:lnTo>
                <a:lnTo>
                  <a:pt x="2627" y="2486"/>
                </a:lnTo>
                <a:lnTo>
                  <a:pt x="2174" y="2541"/>
                </a:lnTo>
                <a:lnTo>
                  <a:pt x="1890" y="2486"/>
                </a:lnTo>
                <a:lnTo>
                  <a:pt x="1579" y="2440"/>
                </a:lnTo>
                <a:lnTo>
                  <a:pt x="1331" y="2278"/>
                </a:lnTo>
                <a:lnTo>
                  <a:pt x="1084" y="2077"/>
                </a:lnTo>
                <a:lnTo>
                  <a:pt x="842" y="1869"/>
                </a:lnTo>
                <a:lnTo>
                  <a:pt x="668" y="1552"/>
                </a:lnTo>
                <a:lnTo>
                  <a:pt x="526" y="1242"/>
                </a:lnTo>
                <a:lnTo>
                  <a:pt x="421" y="880"/>
                </a:lnTo>
                <a:lnTo>
                  <a:pt x="0" y="1034"/>
                </a:lnTo>
                <a:lnTo>
                  <a:pt x="489" y="0"/>
                </a:lnTo>
                <a:lnTo>
                  <a:pt x="1368" y="571"/>
                </a:lnTo>
                <a:lnTo>
                  <a:pt x="910" y="725"/>
                </a:lnTo>
                <a:close/>
              </a:path>
            </a:pathLst>
          </a:cu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647040" y="4608360"/>
            <a:ext cx="811080" cy="2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©—R‚ÉŽQ‰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828800" y="6210360"/>
            <a:ext cx="811080" cy="2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©—R‚ÉŽQ‰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863800" y="5084640"/>
            <a:ext cx="20700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³ˆçŠÖŒWŽÒ‚ÌL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iŠwZƒlƒbƒgƒ[ƒN‘£iƒvƒƒWƒFƒNƒg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1"/>
          <a:stretch/>
        </p:blipFill>
        <p:spPr>
          <a:xfrm>
            <a:off x="6831000" y="6108840"/>
            <a:ext cx="927000" cy="5922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6283440" y="5905440"/>
            <a:ext cx="1941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æi“Iî•ñ‹ZpŠˆ—pƒvƒƒWƒFƒNƒ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62120" y="5943600"/>
            <a:ext cx="819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³ˆçŠÖŒWŽ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7391520" y="4191120"/>
            <a:ext cx="819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³ˆçŠÖŒWŽ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52280" y="2286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ƒ|ƒXƒg‚P‚O‚OZƒvƒƒWƒFƒNƒg‚Å‚ÌŽå—v‚ÈŽæ‚è‘g‚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52280" y="9907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ŠwZƒlƒbƒgƒ[ƒN‘£iƒvƒƒWƒFƒNƒ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‚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±‚ê‚©‚çƒCƒ“ƒ^[ƒlƒbƒgÚ‘±‚ðŽn‚ß‚éŠwZ‚©‚ç“úí“I‚ÉƒCƒ“ƒ^[ƒlƒbƒg‚ðŽg‚Á‚Ä‚¢‚éŠwZ‚Ü‚Å‚ð‘ÎÛ‚ÉA‚P‚O‚OZƒvƒƒWƒFƒNƒg‚ÅŽæ‚è‘g‚ñ‚Å‚«‚½¬‰Ê‚ð‚à‚Æ‚ÉŽö‹Æ‚É–ð—§‚Âî•ñ‚ð’ñ‹Ÿ‚·‚é“™‚ðs‚¤‚Æ‚Æ‚à‚ÉA‹³ˆç‚Ìî•ñ‰»‚ÉŒW‚í‚é‘S‚Ä‚Ìl‚ªŒð—¬‚µ‘ŠŒÝ‚É‚‚ß‚ ‚¦‚éê‚ð\’z‚·‚éB‚Ü‚½A‚±‚ê‚ç‚ðs‚¤ã‚Å“úí‚Ì‰^‰c‚É•K—v‚È‹Zp“I‚Èî•ñ’ñ‹Ÿ‚à‡‚í‚¹‚Äs‚¤B‚±‚±‚Å‹c˜_‚³‚ê‚½‚à‚Ì‚ÅA‚³‚ç‚È‚éŒŸØ‚ª•K—v‚È‚à‚Ì‚É‚Â‚¢‚Ä‚Íæi“Iî•ñ‹ZpŠˆ—pƒvƒƒWƒFƒNƒg‚ÅŽÀŒ»‚ð}‚Á‚Ä‚¢‚­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æi“Iî•ñ‹ZpŠˆ—pƒvƒƒWƒFƒNƒ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‚</a:t>
            </a:r>
            <a:r>
              <a:rPr b="0" lang="en-US" sz="1200" spc="-1" strike="noStrike">
                <a:solidFill>
                  <a:srgbClr val="000000"/>
                </a:solidFill>
                <a:latin typeface="XlXr XSXVXbXN"/>
                <a:ea typeface="XlXr XSXVXbXN"/>
              </a:rPr>
              <a:t>R`‚T”N’ö“xæ‚ðl‚¦A‹³ˆçˆÏˆõ‰ï‚â‹³ˆçŒ»ê“™‚©‚ç‚Ì’ñˆÄ“™‚ð”½‰f‚µ‚ÄA¡Œã•‹y‚ª—\‘ª‚³‚ê‚éî•ñ‹Zp‚ðŽg‚Á‚½æi“I‚È‹³ˆç‚Ìî•ñ‰»ƒvƒƒWƒFƒNƒg‚ðs‚¤‚Æ‚Æ‚à‚ÉA‹³ˆçŒ»ê‚É•K—v‚È‹Zp‚ÌŒŸ“¢EŽÀØE’ñŒ¾‚ðs‚¤B‚±‚Ì¬‰Ê‚ÍAŽžAŠwZƒlƒbƒgƒ[ƒN‘£iƒvƒƒWƒFƒNƒg‚É”½‰f‚µAˆÓŒ©ŒðŠ·‚È‚Ç‚ð}‚Á‚Ä‚¢‚­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934320" y="5105520"/>
            <a:ext cx="1181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³‚ç‚È‚éŒŸØ‚ª•K—v‚È‚à‚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410080" y="6400800"/>
            <a:ext cx="1181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Œ‹‰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’†Œ‹‰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•½–{@Œ’“ñ</dc:creator>
  <dc:description/>
  <dc:language>en-US</dc:language>
  <cp:lastModifiedBy>@@@</cp:lastModifiedBy>
  <cp:revision>0</cp:revision>
  <dc:subject/>
  <dc:title>ƒ|ƒXƒg‚P‚O‚OZƒvƒƒWƒFƒNƒg</dc:title>
</cp:coreProperties>
</file>